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A9F-A372-4F95-9848-07E356E4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EE4-AA77-43D9-B76A-10259D4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1F4-4792-4985-842F-601A454A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9BD-10E3-4D88-8EFA-D4605874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BDC-9F8F-4B50-9994-953BCC1C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ABF-40E6-4403-8B10-77E7F613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B14-1BA3-4E49-8C36-3DB8876F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6CF-9B14-4A95-94D1-CBD50267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B8E-1433-4F38-8DDC-B1461955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62C-D5FD-4FBB-83DF-C9E93B1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F59-7606-4C43-87DE-8A69716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D49-9D4A-4DAF-B72A-CA89011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0636-E978-4EAF-80BE-5D3F7FE82D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>
            <a:off x="0" y="450720"/>
            <a:ext cx="5486400" cy="1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J2039" descr=""/>
          <p:cNvPicPr/>
          <p:nvPr/>
        </p:nvPicPr>
        <p:blipFill>
          <a:blip r:embed="rId3"/>
          <a:stretch/>
        </p:blipFill>
        <p:spPr>
          <a:xfrm>
            <a:off x="0" y="5486400"/>
            <a:ext cx="121932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25080" y="114480"/>
            <a:ext cx="31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章 单片机的硬件结构和原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5.xml"/><Relationship Id="rId10" Type="http://schemas.openxmlformats.org/officeDocument/2006/relationships/slide" Target="slide28.xml"/><Relationship Id="rId11" Type="http://schemas.openxmlformats.org/officeDocument/2006/relationships/slide" Target="slide29.xml"/><Relationship Id="rId12" Type="http://schemas.openxmlformats.org/officeDocument/2006/relationships/hyperlink" Target="file:///&#23553;&#38754;&#21450;&#30446;&#24405;.ppt" TargetMode="External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45120" y="1143000"/>
            <a:ext cx="49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章 单片机的硬件结构和原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39160" y="1981080"/>
            <a:ext cx="327564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1" action="ppaction://hlinksldjump"/>
              </a:rPr>
              <a:t>2.1  概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2.2   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3" action="ppaction://hlinksldjump"/>
              </a:rPr>
              <a:t>MCS -51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4" action="ppaction://hlinksldjump"/>
              </a:rPr>
              <a:t>单片机硬件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5" action="ppaction://hlinksldjump"/>
              </a:rPr>
              <a:t>2.3   中央处理器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6" action="ppaction://hlinksldjump"/>
              </a:rPr>
              <a:t>C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7" action="ppaction://hlinksldjump"/>
              </a:rPr>
              <a:t>2.4   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8" action="ppaction://hlinksldjump"/>
              </a:rPr>
              <a:t>存储器的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9" action="ppaction://hlinksldjump"/>
              </a:rPr>
              <a:t>2.5   并行输入/输出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10" action="ppaction://hlinksldjump"/>
              </a:rPr>
              <a:t>2.6   单片机的引脚及其功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11" action="ppaction://hlinksldjump"/>
              </a:rPr>
              <a:t>2.7   单片机工作的基本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IF014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6840" y="9907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位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24920" y="5486400"/>
            <a:ext cx="38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复位电路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上电复位电路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关复位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未标题-1拷贝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72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39360" y="121932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位后内部寄存器状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未标题-1拷贝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8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066680"/>
            <a:ext cx="7924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令寄存器和指令译码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寄存器中存放指令代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指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程序存储器中读取的指令代码送入指令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译码器译码后由定时与控制电路发出相应的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指令所指定的操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914400"/>
            <a:ext cx="792468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计数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gram    Coun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存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条要执行的指令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专用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寻址范围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~0F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程序中的每条指令存放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的某一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都有自己的存放地址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执行哪条指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把该条指令所在的单元的地址送上地址总线。 在顺序执行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被送到地址总线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自动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PC)← (PC)+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条要执行的指令地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762120"/>
            <a:ext cx="8229600" cy="34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堆栈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ack  Poin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堆栈操作是在内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专门开辟出来的按照“先进后出”原则进行数据存取的一种工作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用于子程序调用及返回和中断处理断点的保护及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在完成子程序嵌套和多重中断处理中是必不可少的。为保证逐级正确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入栈区的“断点”数据应遵循“先进后出”的原则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来指示堆栈所处的位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进行操作之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用指令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规定栈区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的起始地址（栈底层）。当数据推入栈区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也自动随之变化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复位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914400"/>
            <a:ext cx="807732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指针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PT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专用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高位字节寄存器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位字节寄存器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。既可作为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处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作为两个独立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处理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用来存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对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数据存储器空间寻址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间址寄存器用。在访问程序存储器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作基址寄存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18560" y="609480"/>
            <a:ext cx="25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储器的结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未标题-1拷贝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13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7640" y="640080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4 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存储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762120"/>
            <a:ext cx="8458200" cy="47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存储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的内部地址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~0FFF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KB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地址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H~FFFF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当程序计数器由内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到外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自动跳转。对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7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它作为内部程序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无程序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外接程序存储器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多可外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单元地址具有特殊用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保留给系统使用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系统的启动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在该单元中存放一条绝对跳转指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1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2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应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中断源的中断服务入口地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838080"/>
            <a:ext cx="8153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部数据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配置如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所示。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范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~FF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为两大部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~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真正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H~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特殊功能寄存器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00H~1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通用工作寄存器区。每一个区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通用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0~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寄存器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对应关系如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01240" y="990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寄存器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对照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未标题-1拷贝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483400" cy="418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40960" y="99072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  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62440" y="1981080"/>
            <a:ext cx="28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的发展简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4480" y="2514600"/>
            <a:ext cx="500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低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一代单片机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代以来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355560" y="685800"/>
            <a:ext cx="34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 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位寻址区地址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未标题-1拷贝" descr=""/>
          <p:cNvPicPr/>
          <p:nvPr/>
        </p:nvPicPr>
        <p:blipFill>
          <a:blip r:embed="rId1"/>
          <a:stretch/>
        </p:blipFill>
        <p:spPr>
          <a:xfrm>
            <a:off x="1066680" y="1125360"/>
            <a:ext cx="7467840" cy="573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37680" y="11430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6 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殊功能寄存器地址表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未标题-1拷贝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32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37680" y="9144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6 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殊功能寄存器地址表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未标题-1拷贝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77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23280" y="685800"/>
            <a:ext cx="19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 SF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殊功能寄存器地址表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未标题-1拷贝" descr=""/>
          <p:cNvPicPr/>
          <p:nvPr/>
        </p:nvPicPr>
        <p:blipFill>
          <a:blip r:embed="rId1"/>
          <a:stretch/>
        </p:blipFill>
        <p:spPr>
          <a:xfrm>
            <a:off x="228600" y="1073160"/>
            <a:ext cx="8839080" cy="5784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990720"/>
            <a:ext cx="815328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数据存储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数据存储器一般由静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成，其容量大小由用户根据需要而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大可扩展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  RAM 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H~0F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访问外部数据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间接寻址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可作间接寄存器。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扩展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是统一编址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的外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都要占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地址单元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94200" y="762120"/>
            <a:ext cx="36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行输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输出接口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7680" y="609588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 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内部一位结构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未标题-1拷贝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950240" cy="3905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64360" y="16002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40680" y="838080"/>
            <a:ext cx="24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P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447920"/>
            <a:ext cx="853416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为准双向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部差别不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使用功能有所不同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是用户专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准双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通用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一位都能独立地设定为输入或输出。当有输出方式变为输入方式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位的锁存器必须写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才能进入输入操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准双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。外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作为扩展系统的地址总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一起组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地址总线。 对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一般只作为地址总线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不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直接与外部设备相连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06440" y="114300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7  P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的第二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未标题-1拷贝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629560" cy="36831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16960" y="609480"/>
            <a:ext cx="34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的引脚及其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51880" y="6156360"/>
            <a:ext cx="32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6 MCS - 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引脚及总线结构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管脚图； 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b) 803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脚功能分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未标题-1拷贝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5025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64320" y="762120"/>
            <a:ext cx="34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工作的基本时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3880"/>
            <a:ext cx="83822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周期和指令周期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振荡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称时钟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为单片机提供时钟脉冲信号的振荡源的周期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状态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个状态周期为时钟周期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振荡周期经二分频后得到的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机器周期包含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状态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~S6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就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时钟周期。 在一个机器周期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完成一个独立的操作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指令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是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一条操作所需的全部时间。 每条指令执行时间都是有一个或几个机器周期组成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单周期指令、双周期指令和四周期指令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79280" y="9144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的应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61400" y="182880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机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62640" y="2438280"/>
            <a:ext cx="2250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测控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智能仪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机电一体化产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智能接口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智能民用产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0440" y="5335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MCS - 5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令的取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执行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未标题-1拷贝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095880" cy="5854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700040" y="878400"/>
            <a:ext cx="48528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7  MCS - 5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取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时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27720" y="838080"/>
            <a:ext cx="38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外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3080" y="64008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外部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未标题-1拷贝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84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160440" y="6095880"/>
            <a:ext cx="34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- 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外部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未标题-1拷贝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01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145320" y="6172200"/>
            <a:ext cx="35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外部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未标题-1拷贝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3388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18600" y="12193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机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52080" y="1828800"/>
            <a:ext cx="243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功能集散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并行多控制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局部网络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37440" y="762120"/>
            <a:ext cx="44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2  MCS - 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片机硬件结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7880" y="1676520"/>
            <a:ext cx="43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.1  MCS - 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单片机的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8320" y="243828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 MCS - 5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单片机配置一览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未标题-1拷贝" descr=""/>
          <p:cNvPicPr/>
          <p:nvPr/>
        </p:nvPicPr>
        <p:blipFill>
          <a:blip r:embed="rId1"/>
          <a:stretch/>
        </p:blipFill>
        <p:spPr>
          <a:xfrm>
            <a:off x="304920" y="2940120"/>
            <a:ext cx="8534160" cy="39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7360" y="76212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.2 MCS - 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片机的内部结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6840" y="6095880"/>
            <a:ext cx="36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 MCS - 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结构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未标题-1拷贝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705720" cy="45892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11560" y="990720"/>
            <a:ext cx="31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央处理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P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0760" y="182880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算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17240" y="2286000"/>
            <a:ext cx="681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术逻辑单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U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umulat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状态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S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grame  State 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5867280"/>
          <a:ext cx="7543440" cy="584280"/>
        </p:xfrm>
        <a:graphic>
          <a:graphicData uri="http://schemas.openxmlformats.org/drawingml/2006/table">
            <a:tbl>
              <a:tblPr/>
              <a:tblGrid>
                <a:gridCol w="942840"/>
                <a:gridCol w="943200"/>
                <a:gridCol w="942480"/>
                <a:gridCol w="943200"/>
                <a:gridCol w="943200"/>
                <a:gridCol w="942480"/>
                <a:gridCol w="943200"/>
                <a:gridCol w="94284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1066680" y="541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59120" y="5381640"/>
            <a:ext cx="68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34720" y="58672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22720" y="144792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 RS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片内工作寄存器组的对应关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2514600"/>
          <a:ext cx="8229600" cy="2509920"/>
        </p:xfrm>
        <a:graphic>
          <a:graphicData uri="http://schemas.openxmlformats.org/drawingml/2006/table">
            <a:tbl>
              <a:tblPr/>
              <a:tblGrid>
                <a:gridCol w="1218960"/>
                <a:gridCol w="1371600"/>
                <a:gridCol w="1676520"/>
                <a:gridCol w="1905120"/>
                <a:gridCol w="20574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寄存器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片内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用寄存器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H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07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0~R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H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0F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0~R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H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17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0~R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1F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0~R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63280" y="9144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85440" y="17524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钟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31200" y="5791320"/>
            <a:ext cx="41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时钟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内部时钟电路；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外部振荡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未标题-1拷贝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04040" cy="301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6:37:58Z</dcterms:created>
  <dc:creator>mwz2</dc:creator>
  <dc:description/>
  <dc:language>en-US</dc:language>
  <cp:lastModifiedBy>mwz2</cp:lastModifiedBy>
  <dcterms:modified xsi:type="dcterms:W3CDTF">2003-01-23T03:32:48Z</dcterms:modified>
  <cp:revision>12</cp:revision>
  <dc:subject/>
  <dc:title>PowerPoint 演示文稿</dc:title>
</cp:coreProperties>
</file>