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5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4.png" ContentType="image/png"/>
  <Override PartName="/ppt/media/image6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C84B-B5EF-4820-9D4A-9346B08B5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8661-6482-41F2-AA14-F960CE258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E929-27F3-4E73-AC78-E2FD30A0C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D8AD-61B8-4E05-84CD-997A2C324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8D57-4305-43AA-BA40-A292B5029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D19D-9883-4FDD-B65C-5B0754399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B544-59FD-46C7-AADE-AE0D19C86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BFD3-602A-4656-88D0-06650D082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DFCB-78AB-4E34-B4C6-F3DDF9907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1EE6-D9A8-42CB-B5D8-01C2A50E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5F4C-5635-43CB-A74B-062D68D3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FF03-0E3A-420C-8388-6BB7C5E0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A4BB0-4FCB-4271-87C9-1C0FA573888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GIF-396" descr=""/>
          <p:cNvPicPr/>
          <p:nvPr/>
        </p:nvPicPr>
        <p:blipFill>
          <a:blip r:embed="rId2"/>
          <a:stretch/>
        </p:blipFill>
        <p:spPr>
          <a:xfrm>
            <a:off x="0" y="450720"/>
            <a:ext cx="5486400" cy="1526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BJ2039" descr=""/>
          <p:cNvPicPr/>
          <p:nvPr/>
        </p:nvPicPr>
        <p:blipFill>
          <a:blip r:embed="rId3"/>
          <a:stretch/>
        </p:blipFill>
        <p:spPr>
          <a:xfrm>
            <a:off x="0" y="5429160"/>
            <a:ext cx="1219320" cy="8128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1098720" y="119160"/>
            <a:ext cx="350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章 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MCS - 51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单片机的中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21.xml"/><Relationship Id="rId6" Type="http://schemas.openxmlformats.org/officeDocument/2006/relationships/hyperlink" Target="file:///&#23553;&#38754;&#21450;&#30446;&#24405;.ppt" TargetMode="External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109960" y="1295280"/>
            <a:ext cx="568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章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MCS - 5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单片机的中断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08680" y="2895480"/>
            <a:ext cx="314676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Times New Roman"/>
                <a:hlinkClick r:id="rId1" action="ppaction://hlinksldjump"/>
              </a:rPr>
              <a:t>5.1   中断的概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Times New Roman"/>
                <a:hlinkClick r:id="rId2" action="ppaction://hlinksldjump"/>
              </a:rPr>
              <a:t>5.2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imes New Roman"/>
                <a:hlinkClick r:id="rId3" action="ppaction://hlinksldjump"/>
              </a:rPr>
              <a:t>MCS - 51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imes New Roman"/>
                <a:hlinkClick r:id="rId4" action="ppaction://hlinksldjump"/>
              </a:rPr>
              <a:t>中断系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Times New Roman"/>
                <a:hlinkClick r:id="rId5" action="ppaction://hlinksldjump"/>
              </a:rPr>
              <a:t>5.3   中断系统的应用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GIF014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58240" y="6286680"/>
            <a:ext cx="1085760" cy="5713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838080"/>
            <a:ext cx="25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2.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断控制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1600200"/>
            <a:ext cx="830592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断允许控制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CS - 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片机有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05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）中断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了使每个中断源都能独立地被允许或禁止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便用户能灵活使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它在每个中断信号的通道中设置了一个中断屏蔽触发器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只有该触发器无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它所对应的中断请求信号才能进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PU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即此类型中断开放。 否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即使其对应的中断标志位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, 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也不会响应中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即此类型中断被屏蔽了。同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内还设置了一个中断允许触发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它控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能否响应中断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687840" y="4952880"/>
            <a:ext cx="201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.4   I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33520" y="3124080"/>
          <a:ext cx="8152920" cy="660600"/>
        </p:xfrm>
        <a:graphic>
          <a:graphicData uri="http://schemas.openxmlformats.org/drawingml/2006/table">
            <a:tbl>
              <a:tblPr/>
              <a:tblGrid>
                <a:gridCol w="1019160"/>
                <a:gridCol w="1019160"/>
                <a:gridCol w="1018800"/>
                <a:gridCol w="1019160"/>
                <a:gridCol w="1019520"/>
                <a:gridCol w="1018800"/>
                <a:gridCol w="1019160"/>
                <a:gridCol w="1019160"/>
              </a:tblGrid>
              <a:tr h="660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611280" y="247968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S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97880" y="2514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S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038240" y="121932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断优先级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533520" y="3124080"/>
          <a:ext cx="8152920" cy="660600"/>
        </p:xfrm>
        <a:graphic>
          <a:graphicData uri="http://schemas.openxmlformats.org/drawingml/2006/table">
            <a:tbl>
              <a:tblPr/>
              <a:tblGrid>
                <a:gridCol w="1019160"/>
                <a:gridCol w="1019160"/>
                <a:gridCol w="1018800"/>
                <a:gridCol w="1019160"/>
                <a:gridCol w="1019520"/>
                <a:gridCol w="1018800"/>
                <a:gridCol w="1019160"/>
                <a:gridCol w="1019160"/>
              </a:tblGrid>
              <a:tr h="660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T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T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X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T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X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611280" y="247968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S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97880" y="2514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S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96760" y="4572000"/>
            <a:ext cx="20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.5 I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格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07520" y="1143000"/>
            <a:ext cx="295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.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同级内第二优先级次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未标题-1拷贝" descr=""/>
          <p:cNvPicPr/>
          <p:nvPr/>
        </p:nvPicPr>
        <p:blipFill>
          <a:blip r:embed="rId1"/>
          <a:stretch/>
        </p:blipFill>
        <p:spPr>
          <a:xfrm>
            <a:off x="76320" y="2209680"/>
            <a:ext cx="8915400" cy="28879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33520" y="762120"/>
            <a:ext cx="8229600" cy="53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某软件中对寄存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置如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V  IE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＃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FH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V  IP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＃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6H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则此时该系统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·  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断允许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·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允许外部中断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 外部中断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 定时器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计数器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 定时器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计数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提出的中断申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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·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允许中断源的中断优先次序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定时器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计数器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外部中断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外部中断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定时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计数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04880" y="762120"/>
            <a:ext cx="201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2.3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断响应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68080" y="1447920"/>
            <a:ext cx="19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断响应的条件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905120"/>
            <a:ext cx="8382240" cy="456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同级或高优先级的中断已在进行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当前的机器周期还不是正在执行指令的最后一个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器周期（换言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正在执行的指令完成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任何中断请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都得不到响应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正在执行的是一条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T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者访问特殊功能寄存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指令（换言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T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读写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之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马上响应中断请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而至少执行一条其它指令之后才会响应）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533520"/>
            <a:ext cx="8229600" cy="52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断响应过程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片机一旦响应中断请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就由硬件完成以下功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根据响应的中断源的中断优先级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使相应的优先级状态触发器置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;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执行硬件中断服务子程序调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并把当前程序计数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内容压入堆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清除相应的中断请求标志位（串行口中断请求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志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除外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把被响应的中断源所对应的中断服务程序的入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地址（中断矢量）送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从而转入相应的中断服务程序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389120" y="1143000"/>
            <a:ext cx="14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.3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断服务程序入口地址表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未标题-1拷贝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35128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09480" y="685800"/>
            <a:ext cx="80773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现有外部中断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提出申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且主程序中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累加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需保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则编制程序应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03360" y="1905120"/>
            <a:ext cx="311148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RG  0000H  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JMP  MAIN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RG  0013H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JMP  INT1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…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RG  0100H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AIN: …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主程序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…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RG  1000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774160" y="609480"/>
            <a:ext cx="3654000" cy="60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1: PUSH  ACC     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断服务程序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USH  DPH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USH  DPL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USH  0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USH  1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P  1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P  0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P  DPL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P  DPH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P  ACC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TI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82880" y="3259800"/>
            <a:ext cx="546120" cy="3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50800" y="1066680"/>
            <a:ext cx="274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.1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中 断 的  概 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1981080"/>
            <a:ext cx="822960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断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断是指计算机在执行某一程序的过程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由于计算机系统内、 外的某种原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而必须中止原程序的执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转去执行相应的处理程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待处理结束之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再回来继续执行被中止的原程序的过程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采用了中断技术后的计算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以解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外设之间速度匹配的问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使计算机可以及时处理系统中许多随机的参数和信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同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它也提高了计算机处理故障与应变的能力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80880" y="685800"/>
            <a:ext cx="8458200" cy="47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编程中应注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00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放一条跳转到主程序的跳转指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是因为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CS-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片机复位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P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内容变为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000H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程序从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000H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开始执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紧接着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003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中断程序入口地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故在此中间只能插入一条转移指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响应中断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先自动执行一条隐指令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CALL 0013H”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而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013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至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01B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定时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溢出中断入口地址）之间可利用的存储单元不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故放一条无条件转移指令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在中断服务程序的末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必须安排一条中断返回指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TI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使程序自动返回主程序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458200" y="63943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425400" y="914400"/>
            <a:ext cx="270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.3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中断系统的应用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905120"/>
            <a:ext cx="815328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例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步操作的中断实现。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把一个外部中断（设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0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设置为电平激活方式。其中断服务程序的末尾写上如下几条指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JNB  P3.2, $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变高前原地等待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死循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JB   P3.2, $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变低前原地等待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死循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TI       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并执行一条指令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48080" y="283356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4114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10040" y="4834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685800"/>
            <a:ext cx="822960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现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保持低电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且允许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就进入外部中断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服务程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由于有上述几条指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它就会停在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JN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原地等待。当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端出现一个正脉冲（由低到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再到低）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程序就会往下执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执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T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将返回主程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往下执行一条指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然后又立即响应中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等待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端出现的下一个正脉冲。 这样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端每出现一个正脉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主程序就执行一条指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实现了单步执行的目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要注意的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个正脉冲的高电平持续时间不小于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周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确保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能采集到高电平值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57400" y="961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4120" y="914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71800" y="2209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00800" y="3429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762120"/>
            <a:ext cx="815328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例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多中断源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CS - 5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片机有两个外部中断输入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当有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以上中断源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它的中断输入端就不够了。此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以采用中断与查询相结合的方法来实现。 可以使每个中断源都接在同一个外部中断输入端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同时利用输入口线作为多中断源情况下各中断源的识别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773520" y="6400800"/>
            <a:ext cx="20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.6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多中断源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未标题-1拷贝" descr=""/>
          <p:cNvPicPr/>
          <p:nvPr/>
        </p:nvPicPr>
        <p:blipFill>
          <a:blip r:embed="rId1"/>
          <a:stretch/>
        </p:blipFill>
        <p:spPr>
          <a:xfrm>
            <a:off x="1143000" y="609480"/>
            <a:ext cx="7086600" cy="58597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653560" y="455760"/>
            <a:ext cx="3342960" cy="64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1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RG  0003H    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JMP  INT0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…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0:   PUSH  PSW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USH  ACC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JB  P0.7, DV1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JB  P0.6, DV2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JB  P0.5, DV3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JB  P0.4, DV4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OBACK: POP  ACC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P  PSW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TI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V1: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装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断服务程序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042640" y="668160"/>
            <a:ext cx="4609080" cy="57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JMP  GOBACK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V2:     …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装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服务程序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…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JMP  GOBACK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V3: …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装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断服务程序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…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JMP  GOBACK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V4: …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装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断服务程序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…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JMP  GOBAC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458200" y="63943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62120" y="1066680"/>
            <a:ext cx="8001000" cy="18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断源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断源是指在计算机系统中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发出中断请求的来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断可以人为设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也可以是为响应突发性随机事件而设置。通常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备、实时控制系统中的随机参数和信息故障源等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09480" y="838080"/>
            <a:ext cx="800100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断优先级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断优先级越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则响应优先权就越高。当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正在执行中断服务程序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又有中断优先级更高的中断申请产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就会暂停当前的中断服务转而处理高级中断申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待高级中断处理程序完毕再返回原中断程序断点处继续执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一过程称为中断嵌套。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762120"/>
            <a:ext cx="8534160" cy="44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断响应的过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每条指令结束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系统都自动检测中断请求信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有中断请求，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处于开中断状态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则响应中断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保护现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保护现场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般要关中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防止现场被破坏。保护现场一般是用堆栈指令将原程序中用到的寄存器推入堆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断服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即为相应的中断源服务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恢复现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堆栈指令将保护在堆栈中的数据弹出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恢复现场前要关中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防止现场被破坏。在恢复现场后应及时开中断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5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此时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将推入到堆栈的断点地址弹回到程序计数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从而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继续执行刚才被中断的程序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8458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947680" y="762120"/>
            <a:ext cx="361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.2  MCS - 5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中断系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未标题-1拷贝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47023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928600" y="617220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.1 MCS - 5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断系统结构框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60760" y="838080"/>
            <a:ext cx="179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2.1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断源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98320" y="1752480"/>
            <a:ext cx="251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.1  8051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 断 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未标题-1拷贝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8261280" cy="35067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341360" y="1219320"/>
            <a:ext cx="36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特殊功能寄存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CO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的标志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523880" y="3276720"/>
          <a:ext cx="6096240" cy="68580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F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F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E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E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1449720" y="25146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S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83480" y="2590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S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08760" y="4648320"/>
            <a:ext cx="239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.2 TCO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161360" y="1295280"/>
            <a:ext cx="30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特殊功能寄存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CON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693240" y="5181480"/>
            <a:ext cx="23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.3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SCO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533520" y="3124080"/>
          <a:ext cx="8152920" cy="660600"/>
        </p:xfrm>
        <a:graphic>
          <a:graphicData uri="http://schemas.openxmlformats.org/drawingml/2006/table">
            <a:tbl>
              <a:tblPr/>
              <a:tblGrid>
                <a:gridCol w="1019160"/>
                <a:gridCol w="1019160"/>
                <a:gridCol w="1018800"/>
                <a:gridCol w="1019160"/>
                <a:gridCol w="1019520"/>
                <a:gridCol w="1018800"/>
                <a:gridCol w="1019160"/>
                <a:gridCol w="1019160"/>
              </a:tblGrid>
              <a:tr h="660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B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B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671760" y="247968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S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8240" y="251460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S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06:44:26Z</dcterms:created>
  <dc:creator>mwz2</dc:creator>
  <dc:description/>
  <dc:language>en-US</dc:language>
  <cp:lastModifiedBy>muz</cp:lastModifiedBy>
  <dcterms:modified xsi:type="dcterms:W3CDTF">2003-01-23T07:36:05Z</dcterms:modified>
  <cp:revision>9</cp:revision>
  <dc:subject/>
  <dc:title>PowerPoint 演示文稿</dc:title>
</cp:coreProperties>
</file>