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5C3-4268-4F8D-B68A-3E20CED7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0B0-BBE5-4461-9B6E-0CC1C1D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774-400B-4EFD-8ED0-47752F67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D1B-0E6A-4C69-838A-34457460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ADD-E1A7-4481-9B25-74987D94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5D4-B711-4955-93F5-0AF474E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E6-60F4-41AF-8EE5-CE6EA5C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B48-7CC7-4238-8389-7A411F8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178-2288-4F08-B59C-54339C8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E19-F6A3-4ED5-BFBB-7EB7180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45C-BAA3-4BFC-A1FA-C3D4A77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615-A474-40C6-A9FD-F5392B6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B8BC-3BFE-4541-9688-75087AFFE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31532;1&#31456;.ppt#Slide 1" TargetMode="External"/><Relationship Id="rId3" Type="http://schemas.openxmlformats.org/officeDocument/2006/relationships/hyperlink" Target="file:///&#31532;2&#31456;.ppt#Slide 1" TargetMode="External"/><Relationship Id="rId4" Type="http://schemas.openxmlformats.org/officeDocument/2006/relationships/hyperlink" Target="file:///&#31532;3&#31456;.ppt#Slide 1" TargetMode="External"/><Relationship Id="rId5" Type="http://schemas.openxmlformats.org/officeDocument/2006/relationships/hyperlink" Target="file:///&#31532;3&#31456;.ppt#Slide 1" TargetMode="External"/><Relationship Id="rId6" Type="http://schemas.openxmlformats.org/officeDocument/2006/relationships/hyperlink" Target="file:///&#31532;3&#31456;.ppt#Slide 1" TargetMode="External"/><Relationship Id="rId7" Type="http://schemas.openxmlformats.org/officeDocument/2006/relationships/hyperlink" Target="file:///&#31532;4&#31456;.ppt#Slide 1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315200" cy="6934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6680" y="895320"/>
            <a:ext cx="391716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2"/>
              </a:rPr>
              <a:t>第1章 微型计算机基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3"/>
              </a:rPr>
              <a:t>第2章 单片机的硬件结构和原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4"/>
              </a:rPr>
              <a:t>第3章 </a:t>
            </a: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5"/>
              </a:rPr>
              <a:t>MCS-51</a:t>
            </a: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6"/>
              </a:rPr>
              <a:t>单片机指令系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99"/>
                </a:solidFill>
                <a:uFillTx/>
                <a:latin typeface="Times New Roman"/>
                <a:hlinkClick r:id="rId7"/>
              </a:rPr>
              <a:t>第4章 汇编语言程序设计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的中断系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CS - 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片机内部定时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器及串行接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单片机系统扩展与接口技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单片机应用系统的设计与开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单片机系统的抗干扰技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具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核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片机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8040" y="2286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  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2362320"/>
            <a:ext cx="7620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   作：西安电子科技大学出版社  王 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联系人：马武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   话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9-82287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   真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9-82327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   页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ttp://www.xduph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-mail:  xdupkj@163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8380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ahoma"/>
                <a:ea typeface="华文彩云"/>
              </a:rPr>
              <a:t>谢谢使用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9:07:56Z</dcterms:created>
  <dc:creator>mwz2</dc:creator>
  <dc:description/>
  <dc:language>en-US</dc:language>
  <cp:lastModifiedBy>muz</cp:lastModifiedBy>
  <dcterms:modified xsi:type="dcterms:W3CDTF">2003-01-23T02:13:58Z</dcterms:modified>
  <cp:revision>7</cp:revision>
  <dc:subject/>
  <dc:title>PowerPoint 演示文稿</dc:title>
</cp:coreProperties>
</file>