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7.png" ContentType="image/png"/>
  <Override PartName="/ppt/media/image12.png" ContentType="image/png"/>
  <Override PartName="/ppt/media/image1.gif" ContentType="image/gif"/>
  <Override PartName="/ppt/media/image4.png" ContentType="image/png"/>
  <Override PartName="/ppt/media/image3.gif" ContentType="image/gif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2B6B-8591-4FFC-98B7-46E8C6B10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BAE8-99EF-478E-B4D6-0AA9BC3E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B9BF-0836-419C-A8A3-B6A4A6331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0F21-5343-4369-86AC-F2814C054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C38B-6FAD-4517-837A-0FD72986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D9DD-8CA8-4256-8333-120E0AEC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E3E8-8034-4509-997F-F00A16B1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7AA3-4727-443E-BCE6-03EE5F4A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7FA5-9275-43FF-8357-D6FF58B9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27A0-E538-44EC-BB2E-BEDECCD3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755C-E04E-4608-9A3A-1A659022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FFE1-C226-44B9-8314-94503DCC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6D2A-A7F0-4E52-83CD-87C02475F9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GIF-396" descr=""/>
          <p:cNvPicPr/>
          <p:nvPr/>
        </p:nvPicPr>
        <p:blipFill>
          <a:blip r:embed="rId2"/>
          <a:stretch/>
        </p:blipFill>
        <p:spPr>
          <a:xfrm>
            <a:off x="0" y="450720"/>
            <a:ext cx="5486400" cy="152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J2039" descr=""/>
          <p:cNvPicPr/>
          <p:nvPr/>
        </p:nvPicPr>
        <p:blipFill>
          <a:blip r:embed="rId3"/>
          <a:stretch/>
        </p:blipFill>
        <p:spPr>
          <a:xfrm>
            <a:off x="0" y="5429160"/>
            <a:ext cx="1219320" cy="8128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233360" y="127080"/>
            <a:ext cx="318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第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章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CS - 5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单片机指令系统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2.xml"/><Relationship Id="rId3" Type="http://schemas.openxmlformats.org/officeDocument/2006/relationships/hyperlink" Target="file:///&#23553;&#38754;&#21450;&#30446;&#24405;.ppt" TargetMode="External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498760" y="169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9080" y="1219320"/>
            <a:ext cx="598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章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MCS - 5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单片机指令系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83160" y="2743200"/>
            <a:ext cx="1720080" cy="14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1" action="ppaction://hlinksldjump"/>
              </a:rPr>
              <a:t>3.1 寻址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2" action="ppaction://hlinksldjump"/>
              </a:rPr>
              <a:t>3.2 指令系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GIF01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58240" y="6286680"/>
            <a:ext cx="1085760" cy="571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838080"/>
            <a:ext cx="807732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基址寄存器加变址寄存器间接寻址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种寻址方式用于访问程序存储器中的数据表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它以基址寄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内容为基本地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加上变址寄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内容作为操作数的地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C   A, @DPTR+A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MP   @A+DPTR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C   A, @ PC+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762120"/>
            <a:ext cx="79246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对寻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CS -5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令系统中设有转移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为直接转移和相对转移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相对转移指令中采用相对寻址方式。这种寻址方式是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内容为基本地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加上指令中给定的偏移量作为转移地址。指令中给出的偏移量是一个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带符号的常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正可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范围为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12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寻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该种寻址方式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操作数是内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元中某一位的信息。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firstslide"/>
          </p:cNvPr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556440" y="914400"/>
            <a:ext cx="196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2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指令系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31920" y="1828800"/>
            <a:ext cx="201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2.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指令分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590920"/>
            <a:ext cx="822960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按指令的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  MCS -5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系统可分为下列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传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算术运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逻辑运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操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5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转移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685800"/>
            <a:ext cx="8534520" cy="49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n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前选定的寄存器区中的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工作寄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7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i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前选定的寄存器区中的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寄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1, i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rect—— 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内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元的地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它可以是一个内部数据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FH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特殊功能寄存器地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I / 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端口、 控制寄存器、 状态寄存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FFH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ata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令中的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常数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令中的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常数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dr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——1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的目的地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JMP#, LCAL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指向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4 K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存储器地址空间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09480" y="838080"/>
            <a:ext cx="8077320" cy="33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dr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——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的目的地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JMP, ACAL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令。目的地址必须与下一条指令的第一个字节在同一个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 K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存储器地址空间之内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l—— 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带符号的偏移量字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JM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所有条件转移指令中。 偏移量相对于下一条指令的第一个字节计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127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范围内取值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it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部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特殊功能寄存器中的可直接寻址位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PTR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指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用作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的地址寄存器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38080" y="762120"/>
            <a:ext cx="8077320" cy="55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累加器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寄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于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U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令中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进位标志或进位位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@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间接寻址寄存器或基址寄存器的前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@Ri,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操作数的前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对该位取反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——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内容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）——由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寻址的单元中的内容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←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箭头左边的内容被箭头右边的内容所代替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81720" y="609480"/>
            <a:ext cx="26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2.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据传送类指令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09120" y="6400800"/>
            <a:ext cx="37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 –1  MCS 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传送指令示意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未标题-1拷贝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5562720" cy="5176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329720" y="53352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传送类指令一览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未标题-1拷贝" descr=""/>
          <p:cNvPicPr/>
          <p:nvPr/>
        </p:nvPicPr>
        <p:blipFill>
          <a:blip r:embed="rId1"/>
          <a:stretch/>
        </p:blipFill>
        <p:spPr>
          <a:xfrm>
            <a:off x="152280" y="938160"/>
            <a:ext cx="8839440" cy="5843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329720" y="6858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传送类指令一览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未标题-1拷贝" descr=""/>
          <p:cNvPicPr/>
          <p:nvPr/>
        </p:nvPicPr>
        <p:blipFill>
          <a:blip r:embed="rId1"/>
          <a:stretch/>
        </p:blipFill>
        <p:spPr>
          <a:xfrm>
            <a:off x="152280" y="1193760"/>
            <a:ext cx="8915400" cy="56642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09480" y="838080"/>
            <a:ext cx="8001000" cy="47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传送到累加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指令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, R0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, direct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, @Ri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ta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组指令的功能是：把源操作数的内容送入累加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例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 MOV  A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H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该指令执行时将立即数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送入累加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762120"/>
            <a:ext cx="8077320" cy="54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单字节指令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字节指令格式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二进制编码表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R   A→E4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双字节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双字节指令格式由两个字节组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操作码和操作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A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H→74H  10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字节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字节指令格式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个字节为操作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两个字节为操作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40H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H→75H 40H 30H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09480" y="762120"/>
            <a:ext cx="8077320" cy="51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传送到工作寄存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指令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n, A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n, direct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n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ta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组指令的功能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把源操作数的内容送入当前工作寄存器区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某一个寄存器。指令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内部数据存储器中的地址由当前的工作寄存器区选择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S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S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确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以是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7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8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7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8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例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MOV  R0, A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当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S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S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置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0 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工作寄存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执行该指令时，将累加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数据传送至工作寄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0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  00H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元中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85800"/>
            <a:ext cx="81532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传送到内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单元或特殊功能寄存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F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指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direct, A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direct, Rn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direct, direct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direct, @Ri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direct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ata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@Ri, A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@Ri, direct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@Ri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ata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DPTR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ata1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09480" y="83808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组指令的功能是：把源操作数的内容送入内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元或特殊功能寄存器。其中第三条指令和最后一条指令都是三字节指令。第三条指令的功能很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能实现内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间、特殊功能寄存器之间或特殊功能寄存器与内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间的直接数据传送。最后一条指令是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的立即数送入数据指针寄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120" y="990720"/>
            <a:ext cx="769608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累加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外部数据存储器之间的传送指令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X  A, @DPTR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X  A, @Ri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X  @DPTR, A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X  @Ri,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762120"/>
            <a:ext cx="8305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组指令是：在累加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外部数据存储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元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之间进行数据传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前两条指令执行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P3.7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脚上输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效信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作外部数据存储器的读选通信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两条指令执行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P3.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脚上输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效信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作外部数据存储器的写选通信号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包含的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地址信息由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0 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低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2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高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而数据信息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传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P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作分时复用的总线。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为间接寻址寄存器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P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上分时输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的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地址信息及传输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数据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2362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2971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762120"/>
            <a:ext cx="8305560" cy="41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堆栈操作指令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USH  direct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P  direct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CS -5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片机的内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以设定一个先进后出的区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称其为堆栈。在特殊功能寄存器中有一个堆栈指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P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它指出栈顶的位置。 进栈指令的功能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首先将堆栈指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内容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然后将直接地址所指出的内容送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出的内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出栈指令的功能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指出的内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元的内容送入由直接地址所指出的字节单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接着将堆栈指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内容减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685800"/>
            <a:ext cx="8229600" cy="49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进入中断服务子程序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把程序状态寄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SW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累加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数据指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进栈保护。设当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则程序段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USH  PSW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USH  ACC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USH  DPL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USH  DPH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执行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S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容修改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4H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1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2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3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4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元中依次栈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SW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P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P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内容。当中断服务程序结束之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下程序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S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保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4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09480" y="762120"/>
            <a:ext cx="8001000" cy="49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P  DPH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P  DPL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P  ACC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P  PSW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执行之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S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容修改为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0H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4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3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2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1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元中的内容依次弹出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P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P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SW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CS -5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提供一个向上升的堆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因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置初值时要充分考虑堆栈的深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要留出适当的单元空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满足堆栈的使用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685800"/>
            <a:ext cx="8458200" cy="37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存储器内容送累加器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C  A, @A+PC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C  A, @A+DPTR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是两条很有用的查表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用来查找存放在外部程序存储器中的常数表格。第一条指令是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为基址寄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内容作为无符号数和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内容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条指令的起始地址）相加后得到一个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的地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并将该地址指出的程序存储器单元的内容送到累加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这条指令的优点是不改变特殊功能寄存器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状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只要根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内容就可以取出表格中的常数。缺点是表格只能放在该条查表指令后面的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5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单元之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格的大小受到限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而且表格只能被一段程序所利用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09480" y="838080"/>
            <a:ext cx="8077320" cy="25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二条指令是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为基址寄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累加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内容作为无符号数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容相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得到一个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的地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并把该地址指出的程序存储器单元的内容送到累加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这条指令的执行结果只与指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及累加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内容有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该指令存放的地址无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因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格的大小和位置可以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4 K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存储器中任意安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并且一个表格可以为各个程序块所共用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914400"/>
            <a:ext cx="8077320" cy="33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条汇编语言指令中最多包含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区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下所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［标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］ 操作码 ［操作数］ 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注释］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区段之间要用分隔符分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标号与操作码之间用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隔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操作码与操作数之间用空格隔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操作数与注释之间用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隔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操作数有两个以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在操作数之间要用逗号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隔开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乘法指令和除法指令除外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762120"/>
            <a:ext cx="8305920" cy="48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字节交换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CH  A, Rn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CH  A, @Ri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CH  A, direct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CHD  A, @Ri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WAP  A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前三条指令是将累加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内容和源操作数内容相互交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两条指令是半字节交换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最后一条指令是将累加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高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与低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之间进行交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而另外一条指令是将累加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低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内容和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所指出的内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元的低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内容相互交换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40480" y="914400"/>
            <a:ext cx="26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2.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算术运算类指令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36640" y="16416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算术运算指令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未标题-1拷贝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8382240" cy="3587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0880" y="5943600"/>
            <a:ext cx="830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476520" y="9144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算术运算指令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未标题-1拷贝" descr=""/>
          <p:cNvPicPr/>
          <p:nvPr/>
        </p:nvPicPr>
        <p:blipFill>
          <a:blip r:embed="rId1"/>
          <a:stretch/>
        </p:blipFill>
        <p:spPr>
          <a:xfrm>
            <a:off x="0" y="1741320"/>
            <a:ext cx="9144000" cy="4883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01520" y="1752480"/>
            <a:ext cx="8991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445920" y="1066680"/>
            <a:ext cx="25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影响标志位的指令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未标题-1拷贝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772400" cy="4013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未标题-1拷贝" descr=""/>
          <p:cNvPicPr/>
          <p:nvPr/>
        </p:nvPicPr>
        <p:blipFill>
          <a:blip r:embed="rId1"/>
          <a:stretch/>
        </p:blipFill>
        <p:spPr>
          <a:xfrm>
            <a:off x="1301760" y="571680"/>
            <a:ext cx="6165720" cy="6248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88160" y="941760"/>
            <a:ext cx="546120" cy="45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影响标志位的指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43680" y="129528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、 加法指令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209680"/>
            <a:ext cx="3276720" cy="32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普通加法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   A, Rn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   A, direct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   A, @Ri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   A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22240" y="78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09760" y="914400"/>
            <a:ext cx="59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12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和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20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显然大于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7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相加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5880" y="1600200"/>
            <a:ext cx="284760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 1 1 1 1 0 0 0      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 1 1 0 0 1 0 0   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1 0 1 1 1 0 0      2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290520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4640" y="23385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3809880"/>
            <a:ext cx="81536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符号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最高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由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个正数相加结果变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实际上它是和数的最高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符号位移入了进位标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此时位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进位而位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无进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置位溢出标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V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果溢出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762120"/>
            <a:ext cx="8229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同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相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果应为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20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显然小于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8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相加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20600" y="1905120"/>
            <a:ext cx="279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0 0 0 1 0 0 0    -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0 0 1 1 1 0 0    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62320" y="3429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01640" y="2924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2000" y="3505320"/>
            <a:ext cx="30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0 0 1 0 0 1 0 0    -2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4267080"/>
            <a:ext cx="7772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符号位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个负数相加结果变为正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是因为符号位移入进位标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无进位而位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进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置位溢出标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V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由此可判断结果溢出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85800"/>
            <a:ext cx="7924680" cy="50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带进位加法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C  A, Rn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C  A, direct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C  A, @Ri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C  A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ta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组指令的功能与普通加法指令类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唯一的不同之处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执行加法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还要将上一次进位标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内容也一起加进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于标志位的影响也与普通加法指令相同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4920" y="685800"/>
            <a:ext cx="868680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增量指令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A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Rn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direct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@Ri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DPTR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组指令的功能是：将指令中所指出操作数的内容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若原来的内容为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FFH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将产生溢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操作数的内容变成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0H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但不影响任何标志。最后一条指令是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的数据指针寄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执行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操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令执行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先对低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指针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P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内容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产生溢出时就对高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指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P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但不影响任何标志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478320" y="1219320"/>
            <a:ext cx="197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寻址方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286000"/>
            <a:ext cx="815364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谓寻址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就是寻找操作数地址的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用汇编语言编程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的存放、传送、 运算都要通过指令来完成。 编程者必须自始至终都要十分清楚操作数的位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及如何将它们传送到适当的寄存器去参与运算。每一种计算机都具有多种寻址方式。寻址方式的多少是反映指令系统优劣的主要指标之一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880" y="685800"/>
            <a:ext cx="83822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十进制调整指令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A  A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条指令对累加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参与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码加法运算所获得的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结果进行十进制调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累加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内容调整为二位压缩型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码的数。使用时必须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它只能跟在加法指令之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能对减法指令的结果进行调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且其结果不影响溢出标志位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执行该指令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判断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低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是否大于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辅助进位标志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否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”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两者有一个条件满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低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加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操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同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高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大于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进位标志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者有一个条件满足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高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操作。例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两个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相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果应为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1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如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609480"/>
            <a:ext cx="255744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 A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H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 A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H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   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20574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段程序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条指令将立即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6H(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6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送入累加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 第二条指令进行如下加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59200" y="3276720"/>
            <a:ext cx="315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  0  1  1  0  1  1  0     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  1  0  0  0  1  0  1    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92360" y="40734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5040" y="4149720"/>
            <a:ext cx="320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  1  1  1  1  0  1  1     7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  0  0  0  0  1  1  0     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90640" y="4500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84160" y="36496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2360" y="498780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73600" y="495288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 0  0  0  0  0  0  1     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5486400"/>
            <a:ext cx="8229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得结果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BH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三条指令对累加器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进行十进制调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低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BH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大于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因此要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得调整的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码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2280" y="685800"/>
            <a:ext cx="8915400" cy="57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、 减法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带进位减法指令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UBB  A, Rn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UBB  A, direct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UBB  A, @Ri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UBB  A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ta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组指令的功能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累加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内容与第二操作数及进位标志相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果送回到累加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。在执行减法过程中，如果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有借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进位标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置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”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否则清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”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位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有借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辅助进位标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置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”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否则清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”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位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借位而位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没有借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位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借位而位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没有借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溢出标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置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”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否则清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若要进行不带借位的减法操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必须先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清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838080"/>
            <a:ext cx="8001000" cy="48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C  A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C  Rn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C  direct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C  @Ri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组指令的功能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指出的操作数内容减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如果原来的操作数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0H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减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将产生下溢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操作数变成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FFH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但不影响任何标志。 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762120"/>
            <a:ext cx="807732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、 乘法指令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乘法指令完成单字节的乘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只有一条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UL  AB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条指令的功能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累加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内容与寄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内容相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乘积的低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存放在累加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高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存放于寄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。如果乘积超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FFH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溢出标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置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”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否则清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进位标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总是被清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685800"/>
            <a:ext cx="8305920" cy="46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四、  除法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除法指令完成单字节的除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只有一条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V  AB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条指令的功能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累加器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内容除以寄存器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无符号整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得商的整数部分存放在累加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余数部分存放在寄存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清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进位标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溢出标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若原来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内容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执行该指令后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内容不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并将溢出标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置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”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任何情况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进位标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总是被清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31600" y="507960"/>
            <a:ext cx="26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2.4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逻辑运算类指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未标题-1拷贝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364360" cy="5943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700040" y="1657800"/>
            <a:ext cx="48528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表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.4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逻辑运算指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57200" y="685800"/>
            <a:ext cx="8305920" cy="55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、 简单逻辑操作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R  A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累加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清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”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L  A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累加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位取反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L  A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累加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内容向左环移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LC  A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累加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内容带进位标志位向左环移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R  A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累加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内容向右环移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RC  A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累加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内容带进位标志位向右环移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组指令的功能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累加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内容进行简单的逻辑操作。除了带进位标志位的移位指令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它都不影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y, AC, O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标志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62120" y="990720"/>
            <a:ext cx="7924680" cy="51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、 逻辑与指令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NL  A, Rn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NL  A, direct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NL  A, @Ri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NL  A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ta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NL  direct, A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NL  direct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ta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组指令的功能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两个操作数的内容按位进行逻辑与操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并将结果送回目的操作数的单元中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33520" y="838080"/>
            <a:ext cx="8229600" cy="57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、 逻辑或指令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L  A, Rn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L  A, direct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L  A, @Ri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L  A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ta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L  direct, A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L  direct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ta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组指令的功能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两个操作数的内容按位进行逻辑或操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并将结果送回目的操作数的单元中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838080"/>
            <a:ext cx="8153280" cy="52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CS 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片机指令系统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以下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种寻址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立即寻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直接寻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寄存器寻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寄存器间接寻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基址寄存器加变址寄存器间接寻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相对寻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位寻址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09480" y="685800"/>
            <a:ext cx="8077320" cy="58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四、 逻辑异或指令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RL  A, Rn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RL  A, direct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RL  A, @Ri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RL  A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ta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RL  direct, A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RL  direct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ta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组指令的功能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两个操作数的内容按位进行逻辑异或操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并将结果送回到目的操作数的单元中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914400"/>
            <a:ext cx="830592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2.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控制转移指令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控制转移指令共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7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包括按布尔变量控制程序转移指令（见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其中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4 K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范围内的长调用、 长转移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 K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范围内的绝对调用和绝对转移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全空间的长相对转移及一页范围内的短相对转移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还有多种条件转移指令。由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CS -5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提供了较丰富的控制转移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因此在编程上相当灵活方便。这类指令用到的助记符共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AJM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JM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JM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M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CAL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CAL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Z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NZ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JN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JNZ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083040" y="60948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5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控 制 转 移 指 令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未标题-1拷贝" descr=""/>
          <p:cNvPicPr/>
          <p:nvPr/>
        </p:nvPicPr>
        <p:blipFill>
          <a:blip r:embed="rId1"/>
          <a:stretch/>
        </p:blipFill>
        <p:spPr>
          <a:xfrm>
            <a:off x="380880" y="1095480"/>
            <a:ext cx="8458200" cy="5762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066760" y="990720"/>
            <a:ext cx="193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 无条件转移指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1752480"/>
            <a:ext cx="8001000" cy="33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短跳转指令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JMP  addr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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K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范围内的无条件跳转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执行该指令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先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+2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然后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dr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送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保持不变。 这样得到跳转的目的地址。需要注意的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目标地址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JM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面一条指令的第一个字节必须在同一个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 K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区域的存储器区内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09480" y="838080"/>
            <a:ext cx="8001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对转移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JMP  rel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执行该指令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先将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+2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再把指令中带符号的偏移量加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得到跳转的目标地址送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长跳转指令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JMP  addr16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执行该指令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目标地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dr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装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无条件转向指定的目标地址。转移的目标地址可以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4 K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存储器地址空间的任何地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影响任何标志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62120" y="990720"/>
            <a:ext cx="7848360" cy="33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散转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MP  @A+DPTR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执行该指令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把累加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无符号数与数据指针中的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数相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果作为下条指令的地址送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改变累加器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数据指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内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也不影响标志。 利用这条指令能实现程序的散转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09480" y="838080"/>
            <a:ext cx="8077320" cy="36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、 条件转移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Z  rel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 0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移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NZ  rel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移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类指令是依据累加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内容是否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条件转移指令。条件满足时转移（相当于一条相对转移指令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不满足时则顺序执行下面一条指令。转移的目标地址在以下一条指令的起始地址为中心的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5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范围之内（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12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当条件满足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PC←(PC)+N+rel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PC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该条件转移指令的第一个字节的地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该转移指令的字节数（长度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本转移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=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685800"/>
            <a:ext cx="830592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、 比较转移指令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CS - 5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没有专门的比较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但提供了下面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比较不相等转移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 A, direct, rel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 A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ta, rel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 Rn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ta, rel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 @Ri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ta, rel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组指令的功能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比较前面两个操作数的大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它们的值不相等则转移。转移地址的计算方法与上述两条指令相同。如果第一个操作数（无符号整数）小于第二个操作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进位标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置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”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否则清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”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但不影响任何操作数的内容。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5800" y="990720"/>
            <a:ext cx="7848720" cy="36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四、 减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为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转移指令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JNZ  Rn, rel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JNZ  direct, rel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两条指令把源操作数减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果回送到源操作数中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结果不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转移（转移地址的计算方法同前）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838080"/>
            <a:ext cx="8381880" cy="22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五、 调用及返回指令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程序设计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常把具有一定功能的公用程序段编制成子程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主程序需要使用子程序时用调用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而在子程序的最后安排一条子程序返回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便执行完子程序后能返回主程序继续执行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838080"/>
            <a:ext cx="8229600" cy="39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立即寻址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立即寻址方式是指操作数包含在指令字节中。 跟在指令操作码后面的数就是参加运算的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该操作数称为立即数。 立即数有一字节和二字节两种可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A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＃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AH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DPTR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＃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DFFFH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述两条指令均为立即寻址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条指令的功能是将立即数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A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送累加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二条指令的功能是将立即数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DF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送数据指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DFH→DPH, 0FFH→DP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09480" y="838080"/>
            <a:ext cx="807732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绝对调用指令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CALL  addr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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是一条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 K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范围内的子程序调用指令。执行该指令时，先将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+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获得下一条指令的地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然后将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地址压入堆栈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容先进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P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容后进栈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S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容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最后把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高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指令中提供的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地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dr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相连接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Ａ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Ａ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形成子程序的入口地址送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程序转向子程序执行。所用的子程序的入口地址必须与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CAL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面一条指令的第一个字节在同一个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 K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区域的存储器区内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33520" y="762120"/>
            <a:ext cx="815328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长调用指令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CALL  addr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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条指令无条件调用位于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地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dr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子程序。执行该指令时，先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+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获得下一条指令的首地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并把它压入堆栈（先低字节后高字节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S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容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然后将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地址放入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去执行以该地址为入口的程序。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CAL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令可以调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4 K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范围内任何地方的子程序。指令执行后不影响任何标志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09480" y="838080"/>
            <a:ext cx="8077320" cy="49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子程序返回指令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条指令的功能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恢复断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调用子程序时压入堆栈的下一条指令的首地址取出送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程序返回主程序继续执行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断返回指令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I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条指令的功能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令相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同的是它还要清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CS -5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片机内部的中断状态标志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05880" y="533520"/>
            <a:ext cx="243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2.6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操作类指令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14120" y="914400"/>
            <a:ext cx="23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 操 作 指 令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未标题-1拷贝" descr=""/>
          <p:cNvPicPr/>
          <p:nvPr/>
        </p:nvPicPr>
        <p:blipFill>
          <a:blip r:embed="rId1"/>
          <a:stretch/>
        </p:blipFill>
        <p:spPr>
          <a:xfrm>
            <a:off x="533520" y="1409760"/>
            <a:ext cx="8381880" cy="54482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90720" y="838080"/>
            <a:ext cx="7467480" cy="50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令中位地址的表达形式有以下几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地址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A8H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点操作符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E.0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名称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X0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户定义名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用伪指令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I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义：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BZD0 BIT EX0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经定义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允许指令中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BZD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代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X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990720"/>
            <a:ext cx="754380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数据传送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C, bit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bit, C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组指令的功能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把源操作数指出的布尔变量送到目的操作数指定的位地址单元中。其中一个操作数必须为进位标志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y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另一个操作数可以是任何可直接寻址位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990720"/>
            <a:ext cx="8153640" cy="49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变量修改指令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 C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 bit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L  C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L  bit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C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组指令对操作数所指出的位进行清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”#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取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#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置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操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影响其它标志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33520" y="914400"/>
            <a:ext cx="8229600" cy="38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变量逻辑与指令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NL  C, bit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NL  C, /bit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组指令的功能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源位的布尔值是逻辑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将进位标志清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”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否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进位标志保持不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影响其它标志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i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前的斜杠表示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bit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取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接寻址位取反后用作源操作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但不改变直接寻址位原来的值。例如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ANL  C, /ACC.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执行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CC.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,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指令执行后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而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CC.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仍为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09480" y="838080"/>
            <a:ext cx="807732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变量逻辑或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L  C, bit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L  C, /bit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组指令的功能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源位的布尔值是逻辑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将进位标志置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”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否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进位标志保持不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影响其它标志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62120" y="914400"/>
            <a:ext cx="80010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变量条件转移指令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C  rel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Cy)=1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转移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←(PC)+2+rel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NC  rel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Cy)=0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转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←(PC)+2+rel 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B  bit, rel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bit)=1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转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←(PC)+3+rel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NB  bit, rel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bit)=0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转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←(PC)+3+rel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BC  bit, rel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bit)=1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转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←(PC)+3+rel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并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it←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firstslide"/>
          </p:cNvPr>
          <p:cNvSpPr/>
          <p:nvPr/>
        </p:nvSpPr>
        <p:spPr>
          <a:xfrm>
            <a:off x="8534520" y="647064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533520"/>
            <a:ext cx="8534520" cy="38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直接寻址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指令中直接给出操作数的地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种寻址方式就属于直接寻址方式。在这种方式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令的操作数部分直接是操作数的地址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CS -5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片机指令系统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接寻址方式中可以访问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种存储器空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部数据存储器的低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单元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特殊功能寄存器。 特殊功能寄存器只能用直接寻址方式进行访问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地址空间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62120" y="990720"/>
            <a:ext cx="800100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寄存器寻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该寻址方式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参加操作的数存放在寄存器里。寄存器包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工作寄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7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累加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寄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数据指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布尔处理器的位累加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457200"/>
            <a:ext cx="8382240" cy="21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寄存器间接寻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这种寻址方式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寄存器的内容为操作数的地址。 寄存器间接寻址只能使用寄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为地址指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寻址内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区的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访问外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为地址指针。寄存器间接寻址符号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@”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未标题-1拷贝" descr=""/>
          <p:cNvPicPr/>
          <p:nvPr/>
        </p:nvPicPr>
        <p:blipFill>
          <a:blip r:embed="rId1"/>
          <a:stretch/>
        </p:blipFill>
        <p:spPr>
          <a:xfrm>
            <a:off x="2971800" y="3071880"/>
            <a:ext cx="4191120" cy="37861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06:39:59Z</dcterms:created>
  <dc:creator>mwz2</dc:creator>
  <dc:description/>
  <dc:language>en-US</dc:language>
  <cp:lastModifiedBy>muz</cp:lastModifiedBy>
  <dcterms:modified xsi:type="dcterms:W3CDTF">2003-01-23T06:49:22Z</dcterms:modified>
  <cp:revision>12</cp:revision>
  <dc:subject/>
  <dc:title>PowerPoint 演示文稿</dc:title>
</cp:coreProperties>
</file>