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A70-AC30-4690-86A9-25E49C0C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292-ECF0-4AA9-82FE-FD37EF39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B62-6EA6-4BA6-8C18-0B0FCD26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9B0-7341-4966-BCFC-70FBB6D7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74C-EEF8-461B-8A76-326E6B8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21D-E373-4E19-9517-AE2A03FB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4E3-278E-4CF5-BE61-6528AD80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D82-34F8-4BAC-B689-8CDB1C97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DD6-3C27-4F27-91A1-09E411C3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C52-FFFF-4769-9C92-FCAB2564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E94-AEFC-4EC0-AACA-566CC23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73C-6A78-4E8E-AB72-1FD628D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3824-6ED9-46CA-8006-24ADBC817C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-396" descr=""/>
          <p:cNvPicPr/>
          <p:nvPr/>
        </p:nvPicPr>
        <p:blipFill>
          <a:blip r:embed="rId2"/>
          <a:stretch/>
        </p:blipFill>
        <p:spPr>
          <a:xfrm>
            <a:off x="0" y="450720"/>
            <a:ext cx="5486400" cy="1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J2039" descr=""/>
          <p:cNvPicPr/>
          <p:nvPr/>
        </p:nvPicPr>
        <p:blipFill>
          <a:blip r:embed="rId3"/>
          <a:stretch/>
        </p:blipFill>
        <p:spPr>
          <a:xfrm>
            <a:off x="0" y="5429160"/>
            <a:ext cx="121932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150920" y="11916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章 单片机系统扩展与接口技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27.xml"/><Relationship Id="rId4" Type="http://schemas.openxmlformats.org/officeDocument/2006/relationships/slide" Target="slide62.xml"/><Relationship Id="rId5" Type="http://schemas.openxmlformats.org/officeDocument/2006/relationships/slide" Target="slide85.xml"/><Relationship Id="rId6" Type="http://schemas.openxmlformats.org/officeDocument/2006/relationships/slide" Target="slide85.xml"/><Relationship Id="rId7" Type="http://schemas.openxmlformats.org/officeDocument/2006/relationships/slide" Target="slide85.xml"/><Relationship Id="rId8" Type="http://schemas.openxmlformats.org/officeDocument/2006/relationships/slide" Target="slide85.xml"/><Relationship Id="rId9" Type="http://schemas.openxmlformats.org/officeDocument/2006/relationships/slide" Target="slide85.xml"/><Relationship Id="rId10" Type="http://schemas.openxmlformats.org/officeDocument/2006/relationships/hyperlink" Target="file:///&#23553;&#38754;&#21450;&#30446;&#24405;.ppt" TargetMode="External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85440" y="1143000"/>
            <a:ext cx="47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章 单片机系统扩展与接口技术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360" y="2057400"/>
            <a:ext cx="345996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1" action="ppaction://hlinksldjump"/>
              </a:rPr>
              <a:t>7.1   外部总线的扩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2" action="ppaction://hlinksldjump"/>
              </a:rPr>
              <a:t>7.2   外部存储器的扩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3" action="ppaction://hlinksldjump"/>
              </a:rPr>
              <a:t>7.3   输入/输出接口的扩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4" action="ppaction://hlinksldjump"/>
              </a:rPr>
              <a:t>7.4   管理功能部件的扩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5" action="ppaction://hlinksldjump"/>
              </a:rPr>
              <a:t>7.5   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6" action="ppaction://hlinksldjump"/>
              </a:rPr>
              <a:t>A/D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7" action="ppaction://hlinksldjump"/>
              </a:rPr>
              <a:t>和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8" action="ppaction://hlinksldjump"/>
              </a:rPr>
              <a:t>D/A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9" action="ppaction://hlinksldjump"/>
              </a:rPr>
              <a:t>接口功能的扩展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IF014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058240" y="6286680"/>
            <a:ext cx="1085760" cy="571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03640" y="838080"/>
            <a:ext cx="37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7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五种工作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76520" y="198108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   27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方式选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未标题-1拷贝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210520" cy="3035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3640" y="617220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9 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引脚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未标题-1拷贝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5181840" cy="4802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11360" y="838080"/>
            <a:ext cx="47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 DAC08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CS - 5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接口及应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9880" y="15238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缓冲方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1200" y="5943600"/>
            <a:ext cx="43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40   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缓冲方式接口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未标题-1拷贝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019560" cy="4574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42960" y="1143000"/>
            <a:ext cx="608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下面的几条指令就能完成一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0832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A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字量装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@DPTR,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成一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与转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54000" y="8380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缓冲方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7320" y="617220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41 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缓冲方式接口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未标题-1拷贝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5562720" cy="5423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29840" y="838080"/>
            <a:ext cx="710964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DFFFH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0832(1)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A,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1       ; data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0832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锁存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@ DPTR, A      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BFFFH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0832(2)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2        ; data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C0832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锁存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@DPTR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FFH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832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@DPTR, A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时完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输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72880" y="5867280"/>
            <a:ext cx="21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4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梯波形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未标题-1拷贝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858000" cy="4559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78880" y="60948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产生阶梯波的程序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94040" y="1084320"/>
            <a:ext cx="729864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RT: 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     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FFH   ; 083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R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AH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台阶数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:        MOVX   @DPTR, A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数据至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832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LL   DELAY     ; 1 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延时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2   R1, NEXT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台阶转移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JMP    STRT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产生下一个周期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XT:  ADD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台阶增幅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JMP   LP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产生下一台阶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AY: MOV  20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9  ; 1 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延时程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GAIN:  NOP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P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Z  20H, A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494880" y="6400800"/>
            <a:ext cx="34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7 27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连接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未标题-1拷贝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6172200" cy="573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91440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确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7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的地址范围。方法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从最低位开始依次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变为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 04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单元地址依次选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字选。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未标题-1拷贝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39160" cy="2076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7360" y="914400"/>
            <a:ext cx="33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E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M  2864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扩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91160" y="6156360"/>
            <a:ext cx="21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8 2864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管脚及原理框图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管脚；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原理框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未标题-1拷贝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100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10840" y="83808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2  2864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886200"/>
            <a:ext cx="83822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维持和读出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2864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维持和读出方式与普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全相同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写入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2864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两种数据写入操作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写入和页面写入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数据查询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未标题-1拷贝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763120" cy="2541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未标题-1拷贝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897520" cy="6248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99320" y="863280"/>
            <a:ext cx="546120" cy="52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9 2864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接口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81000" y="685800"/>
            <a:ext cx="32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部数据存储器的扩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62000" y="137160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部数据存储器的扩展方法及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32320" y="6248520"/>
            <a:ext cx="47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0   MCS - 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存储器的扩展示意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未标题-1拷贝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43284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55880" y="83808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扩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79440" y="6400800"/>
            <a:ext cx="25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1 626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管脚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未标题-1拷贝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3510000" cy="4876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10760" y="160020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 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工作方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未标题-1拷贝" descr=""/>
          <p:cNvPicPr/>
          <p:nvPr/>
        </p:nvPicPr>
        <p:blipFill>
          <a:blip r:embed="rId1"/>
          <a:stretch/>
        </p:blipFill>
        <p:spPr>
          <a:xfrm>
            <a:off x="0" y="2759040"/>
            <a:ext cx="9144000" cy="2244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未标题-1拷贝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551200" cy="6248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470720" y="1436760"/>
            <a:ext cx="54612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26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25400" y="838080"/>
            <a:ext cx="28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部总线的扩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400" y="144792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 外部总线的扩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27160" y="6400800"/>
            <a:ext cx="38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 MCS - 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部三总线示意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未标题-1拷贝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481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990720"/>
            <a:ext cx="82296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范围不唯一（因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为任意值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6000H~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种地址范围。当向该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写一个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用如下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00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  @DPTR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读一个数据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用如下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@DP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41600" y="914400"/>
            <a:ext cx="14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片存储器芯片的扩展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31880" y="16416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选法寻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2240" y="6400800"/>
            <a:ext cx="27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线选法实现片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未标题-1拷贝" descr=""/>
          <p:cNvPicPr/>
          <p:nvPr/>
        </p:nvPicPr>
        <p:blipFill>
          <a:blip r:embed="rId1"/>
          <a:stretch/>
        </p:blipFill>
        <p:spPr>
          <a:xfrm>
            <a:off x="0" y="2286000"/>
            <a:ext cx="8966160" cy="4051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5480" y="83808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芯片的地址范围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未标题-1拷贝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00720" cy="4692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914400"/>
            <a:ext cx="815328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译码法寻址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译码法寻址就是利用地址译码器对系统的片外高位地址进行译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其译码输出作为存储器芯片的片选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地址划分为连续的地址空间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避免了地址的间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译码法仍用低位地址线对每片内的存储单元进行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高位地址线经过译码器译码后输出作为各芯片的片选信号。常用的地址译码器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/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译码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4LS1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译码法又分为完全译码和部分译码两种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838080"/>
            <a:ext cx="830592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要求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76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扩展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片外程序存储器空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配的地址范围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~3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例采用完全译码方法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确定片数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 ~ 3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存储空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KB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需芯片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要求的存储容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个芯片的存储容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16 KB/ 8 KB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片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2720" y="91440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配地址范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未标题-1拷贝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848720" cy="3633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5400" y="990720"/>
            <a:ext cx="37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器扩展连接如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5320" y="5943600"/>
            <a:ext cx="42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地址译码器扩展存储器的连接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未标题-1拷贝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57920" cy="4019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85280" y="838080"/>
            <a:ext cx="34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输出接口的扩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76520"/>
            <a:ext cx="838224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.1 8255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编程并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口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并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。 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又分为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和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控制字设定可以选择三种工作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通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③ 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双向总线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8255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内部结构和引脚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结构包括三个并行数据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工作方式控制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控制电路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总线缓冲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317400" y="6188040"/>
            <a:ext cx="2575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.15 8255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结构和引脚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内部结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引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未标题-1拷贝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8458200" cy="5585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685800"/>
            <a:ext cx="815328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据输出锁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缓冲器和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据输入锁存器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据输出锁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缓冲器和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据输入缓冲器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据输出锁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缓冲器和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据输入缓冲器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,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作为数据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作为控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态信息端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内部又分为两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个端口有一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锁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配合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控制信号输出或状态信息输入端口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42960" y="5638680"/>
            <a:ext cx="31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址锁存器的引脚和接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未标题-1拷贝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593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762120"/>
            <a:ext cx="815328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工作方式控制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方式控制电路有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控制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个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控制电路。 这两组控制电路共有一个控制命令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来接收中央处理器发来的控制字。 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控制电路用来控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的上半部分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控制电路用来控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的下半部分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685800"/>
            <a:ext cx="815328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总线数据缓冲器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数据缓冲器是一个三态双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缓冲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系统总线之间的接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来传送数据、指令、控制命令以及外部状态信息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控制逻辑电路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控制逻辑电路接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来的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地址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根据控制信号的要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端口数据读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来的数据写入端口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1000" y="460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19920" y="4586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123360" y="955800"/>
            <a:ext cx="37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4  8255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口工作状态选择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未标题-1拷贝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843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未标题-1拷贝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827520" cy="563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91160" y="6156360"/>
            <a:ext cx="39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.16 8255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种工作方式示意图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式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式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c)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05440" y="91440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方式选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47920"/>
            <a:ext cx="838188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方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方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方式不需选通信号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,P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任一端口都可以通过方式控制字设定为输入或输出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方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通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方式。共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分为两组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可由编程设定为输入或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操作的选通信号和应答信号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作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外设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传送某些状态信息及中断请求信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533520"/>
            <a:ext cx="838188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方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向传送方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有方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双向传送数据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的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来作为指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的控制联络线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0920" y="2362320"/>
            <a:ext cx="39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5 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联络控制信号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未标题-1拷贝" descr=""/>
          <p:cNvPicPr/>
          <p:nvPr/>
        </p:nvPicPr>
        <p:blipFill>
          <a:blip r:embed="rId1"/>
          <a:stretch/>
        </p:blipFill>
        <p:spPr>
          <a:xfrm>
            <a:off x="914400" y="2830680"/>
            <a:ext cx="7543800" cy="402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76212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8255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控制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方式控制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未标题-1拷贝" descr=""/>
          <p:cNvPicPr/>
          <p:nvPr/>
        </p:nvPicPr>
        <p:blipFill>
          <a:blip r:embed="rId1"/>
          <a:stretch/>
        </p:blipFill>
        <p:spPr>
          <a:xfrm>
            <a:off x="3657600" y="609480"/>
            <a:ext cx="5097600" cy="6248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89640" y="6400800"/>
            <a:ext cx="31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7 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方式控制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2360" y="803160"/>
            <a:ext cx="32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位控制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19760" y="5943600"/>
            <a:ext cx="43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8 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位控制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未标题-1拷贝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81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838080"/>
            <a:ext cx="815328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工作在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输出。实现上述要求的初始化程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0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寄存器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字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CH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1,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字送入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4640" y="762120"/>
            <a:ext cx="41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8255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03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片机的硬件接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20040" y="6172200"/>
            <a:ext cx="39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19 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接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未标题-1拷贝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78840" cy="478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20600" y="83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总线驱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47920"/>
            <a:ext cx="84582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单片机应用系统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的三总线上挂接很多负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存储器、并行接口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、显示接口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总线接口的负载能力有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常常需要通过连接总线驱动器进行总线驱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驱动器对于单片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只相当于增加了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负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驱动器除了对后级电路驱动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能对负载的波动变化起隔离作用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T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负载驱动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需考虑驱动电流的大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负载驱动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负载的输入电流很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地要考虑对分布电容的电流驱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838080"/>
            <a:ext cx="82296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和控制寄存器地址依次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如果用户需要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8255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口地址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7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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置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0,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3=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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置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 @R0,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5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762120"/>
            <a:ext cx="8229600" cy="28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打印机接口的电路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片选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0.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查询方式交换数据。打印机的状态信号输入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忙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SY=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的数据输入采用选通控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出现负跳变时数据被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求编写向打印机输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的程序。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控制寄存器的口地址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7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D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6712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37800" y="594360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0 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扩展打印机接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未标题-1拷贝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470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低电平有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打印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求下降沿选通。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拟产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。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方式选择命令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10001110B=8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  自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 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开始向打印机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的程序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8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3440" y="141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560" y="3352680"/>
            <a:ext cx="6786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H     ;    R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控制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EH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控制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E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@R0  , A        ;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方式控制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H      ;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块首地址至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H      ;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数据块长度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07080" y="533520"/>
            <a:ext cx="6444000" cy="65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:    MOV    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EH   ;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1:  MOVX    A,    @R0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S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态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B   ACC.7, LP1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询等待打印机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R0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CH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,   @R1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0, A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锁存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; 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H      ;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向控制口  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,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      ; 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0, A         ; 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下降沿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A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H       ; 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位控制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@R0, A        ; 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产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上升沿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Z   R2,   LP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未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反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4360" y="685800"/>
            <a:ext cx="41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.2 815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编程并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9960" y="12193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81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结构与引脚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未标题-1拷贝" descr=""/>
          <p:cNvPicPr/>
          <p:nvPr/>
        </p:nvPicPr>
        <p:blipFill>
          <a:blip r:embed="rId1"/>
          <a:stretch/>
        </p:blipFill>
        <p:spPr>
          <a:xfrm>
            <a:off x="609480" y="1725480"/>
            <a:ext cx="8001000" cy="5132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23160" y="6400800"/>
            <a:ext cx="32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1  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及结构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5160" y="838080"/>
            <a:ext cx="38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815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的编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32880" y="160020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6  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端口地址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未标题-1拷贝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686800" cy="3738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762120"/>
            <a:ext cx="815328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8155 I/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工作方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 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工作方式有两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选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基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无条件传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需任何联络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都可以工作于该方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762120"/>
            <a:ext cx="82296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选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条件传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送的方式可用查询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用中断方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均可工作于此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时需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提供联络控制信号线。 这些联络控制信号线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BF: 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缓冲器满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电平有效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STB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通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低电平有效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INTR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请求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低电平有效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上信号线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均适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F, ASTB, AIN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ST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N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它们都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提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3843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5638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53960" y="1143000"/>
            <a:ext cx="37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7   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线联络信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未标题-1拷贝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05560" cy="3733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762120"/>
            <a:ext cx="82296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 常用的总线驱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总线中地址总线和控制总线是单向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驱动器可以选用单向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带有三态控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实现总线缓冲和隔离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中的数据总线是双向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驱动器也要选用双向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4LS24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4LS24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是三态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个方向控制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,    DIR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→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   DIR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←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838080"/>
            <a:ext cx="807732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81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命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状态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个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态字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上这是两个不同的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存放命令字和状态字。由于对命令寄存器只能进行写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状态寄存器只能进行读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把它们统一编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称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态寄存器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字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定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及定时器的工作方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390840" y="594360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2  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字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未标题-1拷贝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66360" cy="4375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914400"/>
            <a:ext cx="800100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工作方式的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基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输入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基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输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选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,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基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联络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输出。  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均为选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联络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作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联络信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990720"/>
            <a:ext cx="79246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定时器运行控制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2, T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的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2TM1=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操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计数器未计数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装入计数长度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立即开始计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计数器正在计数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待计数器溢出后以新装入的计数长度和方式进行计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89160" y="6094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态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24240" y="601992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3  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状态字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未标题-1拷贝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19840" cy="4807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990720"/>
            <a:ext cx="81532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815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定时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数器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减法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寄存器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格式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09680" y="3606840"/>
          <a:ext cx="6096240" cy="5842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209680" y="4902120"/>
          <a:ext cx="6096240" cy="5842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839880" y="36831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(04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9880" y="49784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(05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31200" y="58672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4 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时器方式及输出波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未标题-1拷贝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35720" cy="4438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4240" y="762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81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接口电路及应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5200" y="5943600"/>
            <a:ext cx="41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5 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 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接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未标题-1拷贝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397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914400"/>
            <a:ext cx="8001000" cy="33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的接口电路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输入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输出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均为基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定时器为连续方波工作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输入脉冲进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频。试编写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初始化程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字可选取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PA=0, PB=1, 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0, IEA=0, IEB=0, TM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即命令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000010B=C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609480"/>
            <a:ext cx="77724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O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04H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定时器的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 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H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定时器的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@DPTR, A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入定时器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    DPTR    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定时器的高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A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H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定时器的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及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方式位的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@DPTR, A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入位的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00H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命令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2H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@DPTR, A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入命令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未标题-1拷贝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79680" y="5562720"/>
            <a:ext cx="335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驱动器芯片管脚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向驱动器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向驱动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609480"/>
            <a:ext cx="81532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的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输入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进行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将该数据存入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（从起始单元开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总数不超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时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停止输入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时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试编写程序。 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822400"/>
            <a:ext cx="77198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200H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向命令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6H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命令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, A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入命令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区首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总数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1:   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01H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, @DPTR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读入数据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Z  LP3              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30720" y="438120"/>
            <a:ext cx="563040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0, A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         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向下一单元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, A   ;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, @DPTR   ;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读入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ACC, 0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0=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, A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回送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1, LP1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未完则反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2:  SJMP  $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暂停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3:  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03H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, A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回送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86440" y="685800"/>
            <a:ext cx="31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管理功能部件的扩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371600"/>
            <a:ext cx="8229600" cy="40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4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盘接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盘实际上是由排列成矩阵形式的一系列按键开关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通过键盘可以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数据、地址和命令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盘按其结构形式可分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码式键盘和非编码式键盘两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系统中普遍使用非编码式键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类键盘主要解决以下几个问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的识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何消除键的抖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的保护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609480"/>
            <a:ext cx="83818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编码式键盘工作原理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编码式键盘识别按键的方法有两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是行扫描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是线反转法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扫描法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行线发出低电平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该行线所连接的键没有按下的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列线所接的端口得到的是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有键按下的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得到非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防止双键或多键同时按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往往从第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一直扫描到最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只发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闭合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为有效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全部作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找到闭合键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入相应的键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再转至相应的键处理程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09480" y="838080"/>
            <a:ext cx="815364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反转法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反转法也是识别闭合键的一种常用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法比行扫描速度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在硬件上要求行线与列线外接上拉电阻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将行线作为输出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线作为输入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线输出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入列线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将行线和列线的输入输出关系互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且将刚才读到的列线值从列线所接的端口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再读取行线的输入值。那么在闭合键所在的行线上值必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这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一个键被按下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定可读到一对唯一的行列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54880" y="87948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键盘接口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81760" y="6400800"/>
            <a:ext cx="36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键盘接口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未标题-1拷贝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170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457200"/>
            <a:ext cx="83818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程序是用行扫描法进行键扫描的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S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判键闭合的子程序。 有键闭合时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码显示器扫描显示子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一遍的时间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程序执行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键闭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值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值的计算公式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4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无键闭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存入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23720" y="2968560"/>
            <a:ext cx="54183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EY1:LCALL  KS1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有无闭合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Z  LK1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键闭合则转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JMP  LK8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闭合键则返回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K1: LCALL  DIR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延时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ms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CALL  DIR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抖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CALL  LS1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再检查有键闭合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Z  LK2 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键闭合则转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JMP  LK8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键闭合则返回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7440" y="609480"/>
            <a:ext cx="78188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K2: MOV  R3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号初值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3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H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扫描初值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2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K3: 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01H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R2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扫描值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@DOTR, A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扫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DPTR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A, @DPTR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入列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L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H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留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4, A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暂存列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JNZ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H, LK4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值非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转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R2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扫描值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05080" y="685800"/>
            <a:ext cx="543672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B  ACC.7, LK8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扫至最后一行则转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  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未扫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移至下一行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2, A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值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3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号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K3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至扫描下一行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K4:    MOV  A, R3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号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, R3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2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5, A  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, R5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4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5, A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R4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值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17000" y="609480"/>
            <a:ext cx="50252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K5:  RRC  A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右移一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C  LK6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位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转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R5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号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JMP  LK5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号未判完则继续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K6:  MOV  20H,   R5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键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K7:  LCALL  DIR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扫描一遍显示器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CALL  KS1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扫描信号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Z  LK7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未释放等待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CALL  DIR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已释放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CALL  DIR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延时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ms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抖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20H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值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ND: 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9800" y="87948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线驱动器的接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未标题-1拷贝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09000" cy="4381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95240" y="5715000"/>
            <a:ext cx="42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4 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总线驱动器的接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 P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的驱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P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的驱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74200" y="638280"/>
            <a:ext cx="62442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K8:   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H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键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S1:   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01H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键子程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扫描信号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@DPTR, A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全扫描信号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DPTR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A, @DPTR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入列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L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H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留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RL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0H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取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L  A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键按下则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46720" y="9144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4.2 LE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显示器接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4880" y="167652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L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器结构与原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51520" y="6400800"/>
            <a:ext cx="33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7  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码显示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未标题-1拷贝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772400" cy="415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49440" y="10666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段码位的对应关系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未标题-1拷贝" descr=""/>
          <p:cNvPicPr/>
          <p:nvPr/>
        </p:nvPicPr>
        <p:blipFill>
          <a:blip r:embed="rId1"/>
          <a:stretch/>
        </p:blipFill>
        <p:spPr>
          <a:xfrm>
            <a:off x="0" y="2514600"/>
            <a:ext cx="9112320" cy="12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18080" y="685800"/>
            <a:ext cx="40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十六进制数及空白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显示段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未标题-1拷贝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562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98640" y="68580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L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器接口电路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41000" y="64008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8   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动态显示器接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未标题-1拷贝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943600" cy="5251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547040" y="1024560"/>
            <a:ext cx="54612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2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子程序流程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未标题-1拷贝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2925720" cy="6248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13480" y="68580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清单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47600" y="1177920"/>
            <a:ext cx="599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:    MOV  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9H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缓冲区首址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3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H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显示器最右边位亮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R3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D0:   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01H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扫描值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@ DPTR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DPTR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A, @R0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显示数据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H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上偏移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A, @A+PC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出字形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@ DPTR, A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出显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07520" y="690480"/>
            <a:ext cx="700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 D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时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缓冲区地址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R3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ACC.5, LD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扫到第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显示位了吗？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R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环移一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扫描下一个显示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R3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LD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D1:       RE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SEG:    DB  3FH, 06H, 5BH, 4FH, 66H, 6DH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段码表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SEG1:  DB  7DH, 07H, 7FH, 6FH, 77H, 7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78840" y="838080"/>
            <a:ext cx="615780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SEG2:  DB  39H, 5EH, 79H, 71H, 73H, 3E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SEG3:  DB  31H, 61H, 1CH, 23H, 40H, 03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SEG4:  DB  18H, 00H, 00H, 00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L1:       MOV  R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H[DW]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延时子程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L:         MOV  R6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F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L6:       DJNZ  R6, DL6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Z  R7, D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35480" y="762120"/>
            <a:ext cx="34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4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盘显示器接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27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371600"/>
            <a:ext cx="80773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82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组成及引脚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7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单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5 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源供电。 它主要由以下几部分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和数据缓冲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控制和定时寄存器及定时控制部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扫描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回送缓冲器与键盘去抖动控制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先进后出）寄存器和状态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显示器地址寄存器及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31880" y="762120"/>
            <a:ext cx="29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部存储器的扩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46200" y="6400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5 MCS - 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程序存储器的扩展原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未标题-1拷贝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79744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82680" y="1523880"/>
            <a:ext cx="399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部程序存储器的扩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部程序存储器的扩展原理及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78520" y="6400800"/>
            <a:ext cx="26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0  827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引脚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未标题-1拷贝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708360" cy="5648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79800" y="87948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82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接口电路与应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81960" y="6400800"/>
            <a:ext cx="40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1 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7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连接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未标题-1拷贝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26920" y="685800"/>
            <a:ext cx="52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新显示器和用查询方法读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键输入数的程序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4320" y="1219320"/>
            <a:ext cx="76356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T1: MOV  O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FFH      ; 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7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态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D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除命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DPTR,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字输入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AITD:MOVX  A,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入状态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B    ACC.7, WAITD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除等待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AH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时钟编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MHz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频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@DPTR, A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送入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8H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器左边输入外部译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键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互锁方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 @DPTR ,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11400" y="471600"/>
            <a:ext cx="73976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H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H~3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放显示字形的段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R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H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H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写显示数据命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@DPTR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DPTR 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EFFH    ; 7E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7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地址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1:MOV   A, @R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@DPTR, A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选码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7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  R0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下一个段选码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2  R7, LOOP1      ; 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段选码送完？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H        ; 4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键值存放单元首址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H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键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2: MOV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FFH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27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61080" y="630360"/>
            <a:ext cx="6990120" cy="59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3:MOVX  A, @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L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H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状态字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Z    LOOP3               ; FI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无键值时等待输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H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@DPTR, A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送入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DPTR, 7EFFH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键输入数据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 A, @DPTR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入键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@R0, A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值存入内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H~4F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 R0         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下一个键值存放单元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Z     R7, LOOP2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键入数据？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RE: AJMP   HERE   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值读完等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644560" y="685800"/>
            <a:ext cx="45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5 A/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口功能的扩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496880"/>
            <a:ext cx="8458200" cy="40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5.1 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接口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述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用以实现模拟量向数字量的转换。 按转换原理可分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式、 双积分式、逐次逼近式以及并行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逐次逼近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是一种速度较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精度较高的转换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转换时间大约在几微秒到几百微秒之间。常用的这种芯片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1~ADC08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8/080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16/081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14400" y="91440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量化间隔和量化误差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的主要技术指标之一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量化间隔由下式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971800" y="1981080"/>
                <a:ext cx="3276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满量程输入电压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2860560"/>
            <a:ext cx="88390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的位数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量化误差有两种表示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种是绝对量化误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种是相对量化误差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绝对量化误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276720" y="4114800"/>
                <a:ext cx="2895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量化间隔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33920" y="5257800"/>
                <a:ext cx="16002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93840" y="914400"/>
            <a:ext cx="44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典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换器芯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C080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37560" y="6172200"/>
            <a:ext cx="34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2 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部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未标题-1拷贝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553160" cy="4459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371400" y="61722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3 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未标题-1拷贝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4694400" cy="5181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90400" y="1600200"/>
            <a:ext cx="35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码与输入通道的对应关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未标题-1拷贝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2519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80560" y="727200"/>
            <a:ext cx="25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EPRO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扩展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2320" y="5867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6  27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引脚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未标题-1拷贝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4302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18760" y="601992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4 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序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未标题-1拷贝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114960" cy="5054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96080" y="60948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ADC08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03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接口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5440" y="1447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询方式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461440" y="794160"/>
            <a:ext cx="546120" cy="59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5 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询方式硬件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未标题-1拷贝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6172200" cy="5802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762120"/>
            <a:ext cx="8305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程序是采用查询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对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模拟信号轮流采样一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依次把结果转存到数据存储区的采样转换程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13280" y="1951200"/>
            <a:ext cx="677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R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 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数据区首址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F8H  ; P2.7=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通道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R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8H  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通道数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1:     MOVX   @DPTR, A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  R6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AH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软件延时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LY: NOP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453040" y="914400"/>
            <a:ext cx="54000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P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P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Z   R6, DALY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A, @DPTR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取转换结果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   @R1, A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数据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     DPTR           ;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下一个通道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C       R1                 ;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数据区指针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Z    R7, LP1         ;  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通道全采样完了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3840" y="6094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方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5120" y="373320"/>
            <a:ext cx="54612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6 ADC080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方式硬件接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未标题-1拷贝" descr=""/>
          <p:cNvPicPr/>
          <p:nvPr/>
        </p:nvPicPr>
        <p:blipFill>
          <a:blip r:embed="rId1"/>
          <a:stretch/>
        </p:blipFill>
        <p:spPr>
          <a:xfrm>
            <a:off x="1600200" y="577800"/>
            <a:ext cx="6781680" cy="6280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6858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里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C080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一个外部扩展的并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脉冲进行启动。因而其端口地址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E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用中断方式读取转换结果的数字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拟量输入通道选择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0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0.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相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L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。其读取通道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后的数字量程序段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0024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9720" y="3952800"/>
            <a:ext cx="52740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RG  1000H    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ADC: SETB  IT1      ; IN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为边沿触发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B  EA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B  EX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4743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03840" y="595440"/>
            <a:ext cx="71650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EFFH    ;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地址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输入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,  A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输入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  0013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PINT1              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INT1: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EFFH   ;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地址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, @DPTR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转换结果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50H, A              ;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, A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, IN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输入并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18120" y="76212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5.2 D/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接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371600"/>
            <a:ext cx="8458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D/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换器的性能指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分辨率。分辨率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对输入量变化敏感程度的描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输入数字量的位数有关。如果数字量的位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的分辨率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建立时间。建立时间是描述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速度的一个参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体是指从输入数字量变化到输出达到终值误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±1/2LS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最低有效位）时所需的时间。通常以建立时间来表明转换速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接口形式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有两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类不带锁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类则带锁存器。对于不带锁存器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保存单片机的转换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接口处要加锁存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48480" y="685800"/>
            <a:ext cx="40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典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换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1752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7 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结构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未标题-1拷贝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918560" cy="4787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136400" y="579132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3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未标题-1拷贝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8007480" cy="4260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6:50:30Z</dcterms:created>
  <dc:creator>mwz2</dc:creator>
  <dc:description/>
  <dc:language>en-US</dc:language>
  <cp:lastModifiedBy>muz</cp:lastModifiedBy>
  <dcterms:modified xsi:type="dcterms:W3CDTF">2003-01-23T09:33:40Z</dcterms:modified>
  <cp:revision>11</cp:revision>
  <dc:subject/>
  <dc:title>PowerPoint 演示文稿</dc:title>
</cp:coreProperties>
</file>