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017-E3E7-4192-ADD8-45FB975D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634-AE05-407B-9740-101A2A67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3CE-4A19-41F5-AF49-9FC1F178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DFD-A049-4141-AE44-62689377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F07-364B-425C-B8FF-7537D0F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B29-F32E-49A0-9004-3366A6A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028-64F2-4151-8AE0-D0AB2012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C16-3C38-4213-97D1-79DF3B9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D6E-03DB-4187-A989-98EE9147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17B-0B91-40D5-B40E-E815A6B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82A-A3FD-453E-A0B7-A6214FC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3D7-5D83-48EE-A46F-A0DF7972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8058-4D51-4F95-AED9-4857B5752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2916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6000" y="13644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 单片机应用系统的设计与开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hyperlink" Target="file:///&#23553;&#38754;&#21450;&#30446;&#24405;.ppt" TargetMode="Externa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6480" y="2362320"/>
            <a:ext cx="387972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8.1   单片机应用系统的开发过程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8.2   单片机开发工具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MICE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8.3   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MCS - 51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应用系统的调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1120" y="1219320"/>
            <a:ext cx="50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章 单片机应用系统的设计与开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88600" y="56386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2 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未标题-1拷贝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3808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762120"/>
            <a:ext cx="82296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支持对用户汇编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/M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源文件的直接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可翻页卷行、自行设计窗口格式及内容等丰富的调试运行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极大地提高了工作效率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速交叉汇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支持多种伪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上每秒大约汇编处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源程序。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配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卡配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对多种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、 写、 校验、空片检查等功能。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) OS|  She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调用可以使用户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的内部或外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BUG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有状态并不破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8480" y="1066680"/>
            <a:ext cx="45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3  MCS - 5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用系统的调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9720" y="20574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硬件调试方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743200"/>
            <a:ext cx="8305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态调试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样机加电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用万用表等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硬件逻辑设计详细检查样机线路的正确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核对元器件的型号、 规格和安装是否符合要求。应特别注意电源系统的检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防止电源短路和极性错误。并重点检查系统总线是否存在相互之间短路或与其它信号线的短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8380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是加电后检查各插件上引脚的电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先检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电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左右属正常。 若出现高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机仿真器调试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损坏仿真器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时会使应用系统的集成块发热损坏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是在断电情况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上所有元器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仿真插头插入样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和仿真机相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万用表检查连接的正确性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联机仿真调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16640" y="5832360"/>
            <a:ext cx="42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系统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发系统简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未标题-1拷贝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779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762120"/>
            <a:ext cx="815364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机仿真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路检查无误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打开样机和仿真器的工作电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入监控状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进行联机仿真调试了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试的方案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整个应用系统按其功能分成若干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系统扩展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模块、 输出模块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块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块等。 针对不同的功能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写一小段测试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借助于万用表、示波器、逻辑笔等仪器来检查硬件电路的正确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762120"/>
            <a:ext cx="83059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软件调试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跳转错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错误的现象是程序运行不到指定的地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发生死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是由于错用了指令或设错了标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6880" y="3124080"/>
            <a:ext cx="440028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G  800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T:    CLR 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1:        INC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C  LP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762120"/>
            <a:ext cx="800100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错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计算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过反复测试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能验证它的正确性。 例如调试一个双字节十进制加法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子程序的功能是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内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T:  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6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R  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36800" y="838080"/>
            <a:ext cx="41461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1:  MOV   A, @R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C  A, @R1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  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@R0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R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R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  R0, LOOP1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R   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ACC.0,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@ R0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2:  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838080"/>
            <a:ext cx="79250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态错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单步、断点仿真运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只能测试目标系统的静态功能。目标系统的动态性能要用全速仿真命令来测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时应选中目标机中晶振电路工作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的动态性能范围很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控制系统的实时响应速度、 显示器的亮度、定时器的精度等等。若动态性能没有达到系统设计的指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原因是由于元器件速度不够造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的是由于多个任务之间的关系处理不恰当引起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49040" y="533520"/>
            <a:ext cx="39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应用系统的开发过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未标题-1拷贝" descr=""/>
          <p:cNvPicPr/>
          <p:nvPr/>
        </p:nvPicPr>
        <p:blipFill>
          <a:blip r:embed="rId1"/>
          <a:stretch/>
        </p:blipFill>
        <p:spPr>
          <a:xfrm>
            <a:off x="3352680" y="990720"/>
            <a:ext cx="332100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51600" y="125280"/>
            <a:ext cx="546120" cy="69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应用系统开发设计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990720"/>
            <a:ext cx="784872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电复位电路的错误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排除硬件和软件故障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上目标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能正常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系统的开发研制便完成。若目标机工作不正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是加电复位电路出现故障造成的。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被初始复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是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系统不会正常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及时检查加电复位电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09480"/>
            <a:ext cx="830592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方案论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解用户的需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确定设计规模和总体框架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摸清软硬件技术难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技术主攻问题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针对主攻问题开展调研工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中外有关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确定初步方案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应用开发技术是软硬件结合的技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设计要权衡任务的软硬件分工。有时硬件设计会影响到软件程序结构。 如果系统中增加某个硬件接口芯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给系统程序的模块化带来了可能和方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硬件开销是值得的。在无碍大局的情况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软件代替硬件正是计算机技术的长处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量采纳可借鉴的成熟技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减少重复性劳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382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硬件系统的设计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应用系统的设计可划分为两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部分是与单片机直接接口的数字电路范围的电路芯片的设计。如存储器和并行接口的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系统、中断系统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的外部设备的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甚至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的接口。另一部分是与模拟电路相关的电路设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信号整形、变换、隔离和选用传感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通道中的隔离和驱动以及执行元件的选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应用系统的总线观念出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局部系统和通道接口设计与单片机要做到全局一盘棋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间的时间是否匹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平是否兼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否实现总线隔离缓冲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避免“拼盘”战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838080"/>
            <a:ext cx="822960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可能选用符合单片机用法的典型电路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可能采用新技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用新的元件及芯片。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抗干扰设计是硬件设计的重要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看门狗电路、 去耦滤波、通道隔离、合理的印制板布线等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系统扩展的各类接口芯片较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充分考虑到总线驱动能力。当负载超过允许范围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保证系统可靠工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加总线驱动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印制板辅助设计软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印制板的设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9480"/>
            <a:ext cx="861048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应用软件设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模块程序设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自顶向下的程序设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设备和外部事件尽量采用中断方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便于系统模块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提高程序效率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近几年推出的单片机开发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些是支持高级语言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/M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编程和在线跟踪调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前已有一些实用子程序发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设计时可适当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包括运行子程序和控制算法程序等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的软件设计应充分考虑到软件抗干扰措施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46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软硬件调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3880"/>
            <a:ext cx="86104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系统主要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的录入、 编辑和交叉汇编功能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仿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仿真单片机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支持用户汇编语言（有的同时支持高级语言）源文件跟踪调试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前一般的开发装置都有与通用微机的连机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利用微机环境进行调试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写入功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822960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开发装置调试通过的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终要脱机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将仿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运行的程序固化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脱机运行。但在开发装置上运行正常的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固化后脱机运行并不一定同样正常。若脱机运行有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需分析原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是否总线驱动功能不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是对接口芯片操作的时间不匹配等。经修改的程序需再次写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55720" y="1066680"/>
            <a:ext cx="45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开发工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45820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其独到的特点而广泛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其微机上的调试软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功能与特点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随机联络方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M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屏幕划分为寄存器窗口、 存储器窗口、 标号窗口、 变量窗口、 文件窗口及主菜单命令等多种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状态和命令全部显示在屏幕的顶行和底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户一屏就能饱览各种调试信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命令均为一键即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提供系统帮助和用户帮助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53:25Z</dcterms:created>
  <dc:creator>mwz2</dc:creator>
  <dc:description/>
  <dc:language>en-US</dc:language>
  <cp:lastModifiedBy>muz</cp:lastModifiedBy>
  <dcterms:modified xsi:type="dcterms:W3CDTF">2003-01-23T09:41:25Z</dcterms:modified>
  <cp:revision>7</cp:revision>
  <dc:subject/>
  <dc:title>PowerPoint 演示文稿</dc:title>
</cp:coreProperties>
</file>