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365-7D7D-43D1-BA0E-DA9DE1F6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AD6-5FDE-40C2-854D-CC16C8F9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1DB-8157-4E2C-9F82-C781EDD1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A41-F374-4A77-BAD5-2E005D9C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81A-2278-4EBB-859C-4967B79F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D52-650E-49CD-A78D-EFAF44FD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871-23D7-4B5B-A72C-33106EC9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CE1-C755-49B3-B033-17B2920B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7B8-B023-4805-A33C-F1234CCE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2BC-65B8-4640-9217-966EEEFB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5120-AAA2-4EC5-8ED6-443C3CBD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F26-E13C-4A29-9AE1-CF3EC5E8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9475-FC93-496D-86DE-1246CE2537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IF-396" descr=""/>
          <p:cNvPicPr/>
          <p:nvPr/>
        </p:nvPicPr>
        <p:blipFill>
          <a:blip r:embed="rId2"/>
          <a:stretch/>
        </p:blipFill>
        <p:spPr>
          <a:xfrm>
            <a:off x="0" y="457200"/>
            <a:ext cx="5486400" cy="152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J2039" descr=""/>
          <p:cNvPicPr/>
          <p:nvPr/>
        </p:nvPicPr>
        <p:blipFill>
          <a:blip r:embed="rId3"/>
          <a:stretch/>
        </p:blipFill>
        <p:spPr>
          <a:xfrm>
            <a:off x="0" y="5435640"/>
            <a:ext cx="1219320" cy="812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648800" y="176040"/>
            <a:ext cx="20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章  微型计算机基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28.xml"/><Relationship Id="rId4" Type="http://schemas.openxmlformats.org/officeDocument/2006/relationships/slide" Target="slide34.xml"/><Relationship Id="rId5" Type="http://schemas.openxmlformats.org/officeDocument/2006/relationships/slide" Target="slide37.xml"/><Relationship Id="rId6" Type="http://schemas.openxmlformats.org/officeDocument/2006/relationships/slide" Target="slide37.xml"/><Relationship Id="rId7" Type="http://schemas.openxmlformats.org/officeDocument/2006/relationships/slide" Target="slide37.xml"/><Relationship Id="rId8" Type="http://schemas.openxmlformats.org/officeDocument/2006/relationships/slide" Target="slide37.xml"/><Relationship Id="rId9" Type="http://schemas.openxmlformats.org/officeDocument/2006/relationships/slide" Target="slide37.xml"/><Relationship Id="rId10" Type="http://schemas.openxmlformats.org/officeDocument/2006/relationships/slide" Target="slide40.xml"/><Relationship Id="rId11" Type="http://schemas.openxmlformats.org/officeDocument/2006/relationships/hyperlink" Target="file:///&#23553;&#38754;&#21450;&#30446;&#24405;.ppt" TargetMode="External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36320" y="1219320"/>
            <a:ext cx="372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章 微型计算机基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48080" y="2133720"/>
            <a:ext cx="3304800" cy="45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1" action="ppaction://hlinksldjump"/>
              </a:rPr>
              <a:t>1.1   计算机中的数制及相互转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2" action="ppaction://hlinksldjump"/>
              </a:rPr>
              <a:t>1.2   二进制数的运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3" action="ppaction://hlinksldjump"/>
              </a:rPr>
              <a:t>1.3   带符号数的表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4" action="ppaction://hlinksldjump"/>
              </a:rPr>
              <a:t>1.4   定点数和浮点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5" action="ppaction://hlinksldjump"/>
              </a:rPr>
              <a:t>1.5   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6" action="ppaction://hlinksldjump"/>
              </a:rPr>
              <a:t>BCD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7" action="ppaction://hlinksldjump"/>
              </a:rPr>
              <a:t>码和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8" action="ppaction://hlinksldjump"/>
              </a:rPr>
              <a:t>ASCII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9" action="ppaction://hlinksldjump"/>
              </a:rPr>
              <a:t>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10" action="ppaction://hlinksldjump"/>
              </a:rPr>
              <a:t>1.6   微型计算机的组成及工作过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IF014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058240" y="6286680"/>
            <a:ext cx="1085760" cy="57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838080"/>
            <a:ext cx="8001000" cy="40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十进制数转换成二、八、十六进制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任意十进制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成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制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需将整数部分和小数部分分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用不同方法分别进行转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用小数点将这两部分连接起来。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数部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除基取余法。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用基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断地去除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整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到商为零为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次所得的余数依次排列即为相应进制的数码。最初得到的为最低有效数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得到的为最高有效数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77240" y="990720"/>
            <a:ext cx="475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8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成二、 八、 十六进制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未标题-1拷贝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87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762120"/>
            <a:ext cx="8229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数部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乘基取整法。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用基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(R=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不断地去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小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到积的小数部分为零（或直到所要求的位数）为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次乘得的整数依次排列即为相应进制的数码。 最初得到的为最高有效数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得到的为最低有效数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2240" y="6400800"/>
            <a:ext cx="644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0.645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(0.10100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(0.51217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(0.A51EB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未标题-1拷贝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86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95280" y="990720"/>
            <a:ext cx="723924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8.645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成二、 八、 十六进制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得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8.645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(10101000.10100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(250.51217) 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(A8.A51EB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762120"/>
            <a:ext cx="8305920" cy="36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进制与八进制之间的相互转换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8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可采用“合三为一”的原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从小数点开始分别向左、右两边各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为一组进行二—八换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不足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以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补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便可将二进制数转换为八进制数。反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用“一分为三”的原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位八进制数用三位二进制数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可将八进制数转换为二进制数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1011.01101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为八进制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287800" y="4876920"/>
            <a:ext cx="3472920" cy="1332720"/>
            <a:chOff x="2287800" y="4876920"/>
            <a:chExt cx="3472920" cy="1332720"/>
          </a:xfrm>
        </p:grpSpPr>
        <p:sp>
          <p:nvSpPr>
            <p:cNvPr id="77" name=""/>
            <p:cNvSpPr/>
            <p:nvPr/>
          </p:nvSpPr>
          <p:spPr>
            <a:xfrm>
              <a:off x="2287800" y="4876920"/>
              <a:ext cx="330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01      011  .  011     01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55920" y="5749920"/>
              <a:ext cx="330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5           3    .    3         2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06760" y="5292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1160" y="5292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5560" y="5292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73640" y="5292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156320" y="6095880"/>
            <a:ext cx="434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1011.01101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(53.32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41400" y="1066680"/>
            <a:ext cx="389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23.45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成二进制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744640" y="2133720"/>
            <a:ext cx="4143240" cy="1332720"/>
            <a:chOff x="2744640" y="2133720"/>
            <a:chExt cx="4143240" cy="1332720"/>
          </a:xfrm>
        </p:grpSpPr>
        <p:sp>
          <p:nvSpPr>
            <p:cNvPr id="87" name=""/>
            <p:cNvSpPr/>
            <p:nvPr/>
          </p:nvSpPr>
          <p:spPr>
            <a:xfrm>
              <a:off x="2897280" y="2133720"/>
              <a:ext cx="36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          2          3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4      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4640" y="3006720"/>
              <a:ext cx="414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001      010      011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100  101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63960" y="2549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78360" y="2549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92760" y="2549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30840" y="2549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2514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7800" y="26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378440" y="411480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3.45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(1010011.10010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50680" y="1330200"/>
            <a:ext cx="484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0101.011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为十六进制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37160" y="232092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11    0101  .  0110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81240" y="3193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         5    .     6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32080" y="273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46480" y="273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60880" y="273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87840" y="277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71680" y="3962520"/>
            <a:ext cx="394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0101.011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(35.6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53320" y="1143000"/>
            <a:ext cx="446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A5B.6C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为二进制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97080" y="2362320"/>
            <a:ext cx="6886440" cy="1450080"/>
            <a:chOff x="1297080" y="2362320"/>
            <a:chExt cx="6886440" cy="1450080"/>
          </a:xfrm>
        </p:grpSpPr>
        <p:sp>
          <p:nvSpPr>
            <p:cNvPr id="106" name=""/>
            <p:cNvSpPr/>
            <p:nvPr/>
          </p:nvSpPr>
          <p:spPr>
            <a:xfrm>
              <a:off x="1450440" y="2362320"/>
              <a:ext cx="652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4                A           5            B        .         6          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97080" y="3352680"/>
              <a:ext cx="688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0100         1010      0101      1011      .      0110      1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7652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9888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1480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148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43600" y="2819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81680" y="2819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72400" y="2819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90720" y="4343400"/>
            <a:ext cx="654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A5B.6C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(100101001011011.011011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345120" y="1295280"/>
            <a:ext cx="28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进制数的运算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286000"/>
            <a:ext cx="800100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2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进制数的算术运算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进制数只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个数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算术运算较为简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、 减法遵循“逢二进一”、“借一当二”的原则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4495680"/>
            <a:ext cx="6934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法运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 0+0=0;   0+1=1;   1+0=1;    1+1=10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进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26800" y="914400"/>
            <a:ext cx="39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机中的数制及相互转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52480"/>
            <a:ext cx="8229600" cy="42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1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位计数制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进位原则进行计数的方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进位计数制。十进制数有两个主要特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不同的数字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…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低位向高位进位的规律是“逢十进一”。               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一个数字符号在不同的数位所代表的数值是不同的。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55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代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5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个数可以写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55.5=5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5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5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5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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式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十进制的基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各数位的权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32360" y="12193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1B+1011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未标题-1拷贝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610320" cy="295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914400"/>
            <a:ext cx="678168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减法运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 0-0=0;   1-1=0;   1-0=1;    0-1=1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借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56400" y="2666880"/>
            <a:ext cx="31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00B-111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未标题-1拷贝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5257800" cy="249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0200" y="609480"/>
            <a:ext cx="579132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乘法运算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0×0=0;   0×1=1×0=0;     1×1=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11B×1101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未标题-1拷贝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791320" cy="378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59560" y="640080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100101B/1111B=1011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未标题-1拷贝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19320" y="609480"/>
            <a:ext cx="54100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法运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 0/1=0;  1/1=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100101B/1111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080" y="7621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2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进制数的逻辑运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447920"/>
            <a:ext cx="838224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”运算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”运算是实现“必须都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否则就没有”这种逻辑关系的一种运算。 运算符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  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运算规则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·0=0,        0·1=1·0=0,       1·1=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1011B, Y=1001B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·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733920" y="4800600"/>
                <a:ext cx="8143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1</m:t>
                            </m:r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100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201840" y="53341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596916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47000" y="583236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·Y=1001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762120"/>
            <a:ext cx="8153280" cy="26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”运算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”运算是实现“只要其中之一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就有”这种逻辑关系的一种运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运算符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 “或”运算规则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+0=0,      0+1=1+0=1,   1+1=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10101B, Y=01101B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33720" y="3630600"/>
            <a:ext cx="942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5029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38360" y="4473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36960" y="571500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+Y=11101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838080"/>
            <a:ext cx="800100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”运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”运算是实现“求反”这种逻辑的一种运算，如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“非”运算记作       。 其运算规则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202560" y="2222640"/>
            <a:ext cx="400320" cy="459720"/>
            <a:chOff x="3202560" y="2222640"/>
            <a:chExt cx="400320" cy="459720"/>
          </a:xfrm>
        </p:grpSpPr>
        <p:sp>
          <p:nvSpPr>
            <p:cNvPr id="143" name=""/>
            <p:cNvSpPr/>
            <p:nvPr/>
          </p:nvSpPr>
          <p:spPr>
            <a:xfrm>
              <a:off x="3202560" y="2222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9600" y="2283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429000" y="2895480"/>
                <a:ext cx="19051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</m:e>
                    </m:ba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380240" y="3962520"/>
            <a:ext cx="39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10101B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         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361400" y="3997440"/>
            <a:ext cx="400320" cy="459720"/>
            <a:chOff x="4361400" y="3997440"/>
            <a:chExt cx="400320" cy="459720"/>
          </a:xfrm>
        </p:grpSpPr>
        <p:sp>
          <p:nvSpPr>
            <p:cNvPr id="148" name=""/>
            <p:cNvSpPr/>
            <p:nvPr/>
          </p:nvSpPr>
          <p:spPr>
            <a:xfrm>
              <a:off x="4361400" y="3997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38440" y="4057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819520" y="4800600"/>
                <a:ext cx="3504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0101</m:t>
                        </m:r>
                      </m:e>
                    </m:ba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1010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838080"/>
            <a:ext cx="815328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异或”运算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或”运算是实现“必须不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否则就没有”这种逻辑的一种运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算符为“”。其运算规则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352680" y="2133720"/>
                <a:ext cx="3654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86000" y="2819520"/>
                <a:ext cx="48769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⊕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,0</m:t>
                    </m:r>
                    <m:r>
                      <m:t xml:space="preserve">⊕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,1</m:t>
                    </m:r>
                    <m:r>
                      <m:t xml:space="preserve">⊕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1,1</m:t>
                    </m:r>
                    <m:r>
                      <m:t xml:space="preserve">⊕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324080" y="3581280"/>
            <a:ext cx="51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1010B, Y=0110B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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600880" y="3632040"/>
                <a:ext cx="365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3490920" y="4253040"/>
            <a:ext cx="79020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5410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124080" y="4952880"/>
                <a:ext cx="365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391040" y="586728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Y=1100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374920" y="5918040"/>
                <a:ext cx="365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73120" y="1143000"/>
            <a:ext cx="27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带符号数的表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981080"/>
            <a:ext cx="807696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3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机器数及真值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机在数的运算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可避免地会遇到正数和负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么正负符号如何表示呢？由于计算机只能识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将一个二进制数的最高位用作符号位来表示这个数的正负。 规定符号位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负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X=-1101010B, Y=+1101010B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11101010B, 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110101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85760" y="685800"/>
            <a:ext cx="20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3.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的码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5680" y="1219320"/>
            <a:ext cx="845820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码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正数的符号位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负数的符号位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部分用真值的绝对值来表示的二进制机器数称为原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原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整数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=+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n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n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n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n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X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=-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n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n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n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n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二进制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…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二进制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计算机中（设机器数的位数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其原码可分别表示为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01110011B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11110011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78920" y="91440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任意一个十进制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可以表示成按权展开的多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828800" y="1676520"/>
                <a:ext cx="6248520" cy="17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04920" y="3505320"/>
            <a:ext cx="845820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 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字中的任意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小数点右边的位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小数点左边的位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数位的序数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543.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表示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43.21=5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4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3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2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50840" y="955800"/>
            <a:ext cx="532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真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原码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关系为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286000" y="1676520"/>
                <a:ext cx="281952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原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486400" y="1676520"/>
                <a:ext cx="20574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85800" y="3505320"/>
            <a:ext cx="79246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得注意的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00000000B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0000000B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以数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原码不唯一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二进制原码能表示的范围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-127~+1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9480" y="838080"/>
            <a:ext cx="8077320" cy="33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正数的反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于该数的原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负数的反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它的正数的原码按位取反形成。反码用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-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X=+103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01100111B; X=-103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1100111B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00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2895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606680" y="4648320"/>
                <a:ext cx="357012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反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486400" y="4699080"/>
                <a:ext cx="20574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685800"/>
            <a:ext cx="838224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码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”是指一个计量系统的计数量程。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钟的模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任何有模的计量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均可化减法为加法运算。仍以时钟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当前时钟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准确时间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整时间的方法有两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种是时钟倒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-4=7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种是时钟正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+8=12+7=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由此可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模的系统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效果是一样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4=+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  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计算机来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补码定义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238480" y="4952880"/>
                <a:ext cx="25984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补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800600" y="5029200"/>
                <a:ext cx="33624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685800"/>
            <a:ext cx="8305920" cy="57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正数的补码就是它本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负数的补码是真值与模数相加而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n=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7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01001001B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7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0000000 B- 01001001B=10110111B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00000000B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补码表示是唯一的。在用补码定义求负数补码的过程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做减法不方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该法不用。负数补码的求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原码求反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再在数值末位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 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=11100001+1=1110001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二进制补码能表示的范围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-128 ~+127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超过此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为溢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62920" y="5105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501360" y="1143000"/>
            <a:ext cx="28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4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点数和浮点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2057400"/>
            <a:ext cx="807696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点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点法中约定所有数据的小数点隐含在某个固定位置。 对于纯小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数点固定在数符与数值之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整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把小数点固定在数值部分的最后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格式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97400" y="4800600"/>
            <a:ext cx="25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纯小数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尾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648320" y="4724280"/>
          <a:ext cx="2819160" cy="609840"/>
        </p:xfrm>
        <a:graphic>
          <a:graphicData uri="http://schemas.openxmlformats.org/drawingml/2006/table">
            <a:tbl>
              <a:tblPr/>
              <a:tblGrid>
                <a:gridCol w="1409760"/>
                <a:gridCol w="140940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  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尾  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6219360" y="541008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数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48320" y="5867280"/>
          <a:ext cx="2819160" cy="584280"/>
        </p:xfrm>
        <a:graphic>
          <a:graphicData uri="http://schemas.openxmlformats.org/drawingml/2006/table">
            <a:tbl>
              <a:tblPr/>
              <a:tblGrid>
                <a:gridCol w="1409400"/>
                <a:gridCol w="1409760"/>
              </a:tblGrid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  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尾  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7667280" y="605808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数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838080"/>
            <a:ext cx="8001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浮点法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浮点法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的小数点位置不是固定不变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是可浮动的。 因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将任意一个二进制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成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=±M·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±E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尾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纯二进制小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阶码。可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浮点数有阶码和尾数两部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且都带有表示正负的阶码符与数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格式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133720" y="5486400"/>
          <a:ext cx="6172200" cy="609480"/>
        </p:xfrm>
        <a:graphic>
          <a:graphicData uri="http://schemas.openxmlformats.org/drawingml/2006/table">
            <a:tbl>
              <a:tblPr/>
              <a:tblGrid>
                <a:gridCol w="1523880"/>
                <a:gridCol w="1752480"/>
                <a:gridCol w="1447920"/>
                <a:gridCol w="144792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阶  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阶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  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尾数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914400"/>
            <a:ext cx="792504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阶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位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尾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位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浮点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取值范围为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zh-CN" sz="2400" spc="-1" strike="noStrike" baseline="52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≤|N|≤(1-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 baseline="52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提高精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挥尾数有效位的最大作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规定尾数数字部分原码的最高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叫做规格化表示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0001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0.101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919600" y="1143000"/>
            <a:ext cx="40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5 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码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SCII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45360" y="1981080"/>
            <a:ext cx="21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5.1 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828800" y="2971800"/>
          <a:ext cx="6095880" cy="34286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十进制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21BC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十进制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21BC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7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3601080" y="2438280"/>
            <a:ext cx="28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2 8421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码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14400" y="1066680"/>
            <a:ext cx="75438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9.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2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直接写出相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9.25 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1101001.001001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82880" y="533520"/>
            <a:ext cx="24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5.2  ASCI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84360" y="838080"/>
            <a:ext cx="24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3 ASCI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 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未标题-1拷贝" descr=""/>
          <p:cNvPicPr/>
          <p:nvPr/>
        </p:nvPicPr>
        <p:blipFill>
          <a:blip r:embed="rId1"/>
          <a:stretch/>
        </p:blipFill>
        <p:spPr>
          <a:xfrm>
            <a:off x="533520" y="1224000"/>
            <a:ext cx="8229600" cy="563400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60400" y="914400"/>
            <a:ext cx="54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而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制表示的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  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按权展开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971720" y="1676520"/>
                <a:ext cx="5962680" cy="17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×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85800" y="3657600"/>
            <a:ext cx="80010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…、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中的任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 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正整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 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基数。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个数字所表示的值是该数字与它相应的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乘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数原则是“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一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75600" y="11430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6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微型计算机的组成及工作过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85760" y="1981080"/>
            <a:ext cx="20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6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组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91640" y="601992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微型计算机的基本组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未标题-1拷贝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7925040" cy="27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3520" y="838080"/>
            <a:ext cx="82296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央处理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entral  Processing    Un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计算机的核心部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由运算器和控制器组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完成计算机的运算和控制功能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算器又称算术逻辑部件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U, Aithmctieal  Logic Un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完成对数据的算术运算和逻辑运算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控制器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整个计算机的指挥中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负责从内部存储器中取出指令并对指令进行分析、判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根据指令发出控制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计算机的有关部件及设备有条不紊地协调工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证计算机能自动、连续地运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838080"/>
            <a:ext cx="8458200" cy="36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还包括若干寄存器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们的作用是存放运算过程中的各种数据、地址或其它信息。寄存器种类很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用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向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运算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保留运算中间或最终的结果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是一个使用相对频繁的特殊的通用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重复累加数据的功能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计数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放将要执行的指令地址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存储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R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放根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从存储器中取出的指令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微型计算机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集成在一块被称为微处理器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PU, Micro  Processing  Un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的芯片上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838080"/>
            <a:ext cx="815328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储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储器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具有记忆功能的部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来存储数据和程序。存储器根据其位置不同可分为两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储器和外存储器。内存储器（简称内存）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接相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放当前要运行的程序和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也称主存储器（简称主存）。它的特点是存取速度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上可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处理速度相匹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价格较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能存储的信息量较小。外存储器（简称外存）又称辅助存储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用于保存暂时不用但又需长期保留的程序和数据。 存放在外存的程序必须调入内存才能进行。外存的存取速度相对较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价格较便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保存的信息量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09480" y="990720"/>
            <a:ext cx="8001000" cy="25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出接口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口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接口由大规模集成电路组成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器件构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来连接主机和相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备（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盘、 鼠标、显示器、 打印机等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得这些设备和主机之间传送的数据、信息在形式上和速度上都能匹配。不同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备必须配置与其相适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口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62120" y="990720"/>
            <a:ext cx="784836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线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线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计算机各部件之间传送信息的公共通道。微机中有内部总线和外部总线两类。内部总线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部之间的连线。外部总线是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其它部件之间的连线。 外部总线有三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总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  B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总线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ress  B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控制总线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BControl   B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838080"/>
            <a:ext cx="815328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6.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工作过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诺依曼原理构成的现代计算机的工作原理可概括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储程序和程序控制。存储程序是指人们必须事先把计算机的执行步骤序列（即程序）及运行中所需的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一定的方式输入并存储在计算机的存储器中。程序控制是指计算机能自动地逐一取出程序中的一条条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以分析并执行规定的操作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533520"/>
            <a:ext cx="792468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=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执行过程。 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定我们有一个虚拟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M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存储器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K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字组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CPU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有一个可被程序员使用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格式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505320" y="2971800"/>
          <a:ext cx="2819160" cy="609480"/>
        </p:xfrm>
        <a:graphic>
          <a:graphicData uri="http://schemas.openxmlformats.org/drawingml/2006/table">
            <a:tbl>
              <a:tblPr/>
              <a:tblGrid>
                <a:gridCol w="1409760"/>
                <a:gridCol w="140940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操作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址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1437840" y="380988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有如下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未标题-1拷贝" descr=""/>
          <p:cNvPicPr/>
          <p:nvPr/>
        </p:nvPicPr>
        <p:blipFill>
          <a:blip r:embed="rId1"/>
          <a:stretch/>
        </p:blipFill>
        <p:spPr>
          <a:xfrm>
            <a:off x="0" y="4343400"/>
            <a:ext cx="9144000" cy="207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685800"/>
            <a:ext cx="8382240" cy="52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均已存放在存储单元中。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个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是某个存储单元的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单元中存放的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地址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单元中取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送到累加器中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累加器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地址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单元的内容相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果存放在累加器中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累加器中的内容送到地址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单元中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AD   X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  Y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ORE  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114360" y="1219320"/>
            <a:ext cx="33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4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=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程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未标题-1拷贝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3316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J2049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711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609480"/>
            <a:ext cx="81532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进制数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=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二进位计数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简称二进制。在二进制数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有两个不同数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位规律为“逢二进一”。任何一个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用二进制表示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057400" y="3200400"/>
                <a:ext cx="579132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143000" y="4952880"/>
            <a:ext cx="71629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进制数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11.0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表示为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011.01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×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0×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×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×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0×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×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838080"/>
            <a:ext cx="8229600" cy="41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被取出后送入指令寄存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trction     Regis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控制器中的译码器对指令进行分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识别不同的指令类别及各种获得操作数的方法。以加法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 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译码器分析后得到如下结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是一个加法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操作数存放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地址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0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操作数隐含在累加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操作进入指令执行阶段。仍以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   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内容送入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U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行加法运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果送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8381880" y="6394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914400"/>
            <a:ext cx="792468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八进制数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=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八进制。在八进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…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不同的数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用“逢八进一”的原则进行计数。如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3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表示为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503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5×8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0×8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3×8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838080"/>
            <a:ext cx="8001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十六进制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=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十六进制。在十六进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…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不同的数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位方法是“逢十六进一”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A8.0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表示为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A8.0D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3×16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0×16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8×16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0×16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 13×16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35880" y="106668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各种进位制的对应关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1930320"/>
          <a:ext cx="8458200" cy="408924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1257480"/>
                <a:gridCol w="952560"/>
                <a:gridCol w="990360"/>
                <a:gridCol w="990720"/>
                <a:gridCol w="12952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十进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进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八进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十六进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十进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进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八进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十六进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47080" y="10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1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同进制间的相互转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8520" y="1905120"/>
            <a:ext cx="30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 八、 十六进制转换成十进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514600"/>
            <a:ext cx="800100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0.101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(46.12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  (2D.A4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为十进制。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01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×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0×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×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0×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×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2.625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6.12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4×8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6×8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×8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2×8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38.156 25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D.A4)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2×16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3×16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0×16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4×16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45.640 62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06:25:44Z</dcterms:created>
  <dc:creator>mwz2</dc:creator>
  <dc:description/>
  <dc:language>en-US</dc:language>
  <cp:lastModifiedBy>muz</cp:lastModifiedBy>
  <dcterms:modified xsi:type="dcterms:W3CDTF">2003-01-23T01:52:05Z</dcterms:modified>
  <cp:revision>18</cp:revision>
  <dc:subject/>
  <dc:title>PowerPoint 演示文稿</dc:title>
</cp:coreProperties>
</file>