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5.png" ContentType="image/png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2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566-B6B2-419A-98A6-342AF231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DFA8-D1FA-4962-877D-862D1686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765-BF32-4C1F-B483-085B414E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365-42C3-4371-8DB8-8D7AC0BE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4D0C-3B2B-408F-B08D-A7D7949A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2237-A565-44A4-9374-9B03FCD5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D94-D8B6-4982-9D9C-64F2E292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9790-2009-4A98-A68A-3C326D77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A16-B4D3-4FF4-A056-764CA554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B72-2D6E-41BF-8A6E-8765DBFE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A01-CA7D-46CC-8082-A09FCA1D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4D3-7305-4F80-841D-341342E3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D275-1534-4D8B-BE6B-B85CFD3C8F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IF-396" descr=""/>
          <p:cNvPicPr/>
          <p:nvPr/>
        </p:nvPicPr>
        <p:blipFill>
          <a:blip r:embed="rId2"/>
          <a:stretch/>
        </p:blipFill>
        <p:spPr>
          <a:xfrm>
            <a:off x="0" y="450720"/>
            <a:ext cx="5486400" cy="152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J2039" descr=""/>
          <p:cNvPicPr/>
          <p:nvPr/>
        </p:nvPicPr>
        <p:blipFill>
          <a:blip r:embed="rId3"/>
          <a:stretch/>
        </p:blipFill>
        <p:spPr>
          <a:xfrm>
            <a:off x="0" y="5429160"/>
            <a:ext cx="1219320" cy="812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084680" y="127080"/>
            <a:ext cx="32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章 具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内核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单片机简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6.xml"/><Relationship Id="rId7" Type="http://schemas.openxmlformats.org/officeDocument/2006/relationships/slide" Target="slide47.xml"/><Relationship Id="rId8" Type="http://schemas.openxmlformats.org/officeDocument/2006/relationships/slide" Target="slide47.xml"/><Relationship Id="rId9" Type="http://schemas.openxmlformats.org/officeDocument/2006/relationships/slide" Target="slide47.xml"/><Relationship Id="rId10" Type="http://schemas.openxmlformats.org/officeDocument/2006/relationships/hyperlink" Target="file:///&#23553;&#38754;&#21450;&#30446;&#24405;.ppt" TargetMode="External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68760" y="1295280"/>
            <a:ext cx="57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章 具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内核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位单片机简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63880" y="2286000"/>
            <a:ext cx="3257640" cy="29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66"/>
                </a:solidFill>
                <a:uFillTx/>
                <a:latin typeface="Times New Roman"/>
                <a:hlinkClick r:id="rId1" action="ppaction://hlinksldjump"/>
              </a:rPr>
              <a:t>10.1 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Times New Roman"/>
                <a:hlinkClick r:id="rId2" action="ppaction://hlinksldjump"/>
              </a:rPr>
              <a:t>AT89C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Times New Roman"/>
                <a:hlinkClick r:id="rId3" action="ppaction://hlinksldjump"/>
              </a:rPr>
              <a:t>系列单片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66"/>
                </a:solidFill>
                <a:uFillTx/>
                <a:latin typeface="Times New Roman"/>
                <a:hlinkClick r:id="rId4" action="ppaction://hlinksldjump"/>
              </a:rPr>
              <a:t>10.2 8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Times New Roman"/>
                <a:hlinkClick r:id="rId5" action="ppaction://hlinksldjump"/>
              </a:rPr>
              <a:t>XC51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Times New Roman"/>
                <a:hlinkClick r:id="rId6" action="ppaction://hlinksldjump"/>
              </a:rPr>
              <a:t>系列单片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66"/>
                </a:solidFill>
                <a:uFillTx/>
                <a:latin typeface="Times New Roman"/>
                <a:hlinkClick r:id="rId7" action="ppaction://hlinksldjump"/>
              </a:rPr>
              <a:t>10.3 8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Times New Roman"/>
                <a:hlinkClick r:id="rId8" action="ppaction://hlinksldjump"/>
              </a:rPr>
              <a:t>XC552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Times New Roman"/>
                <a:hlinkClick r:id="rId9" action="ppaction://hlinksldjump"/>
              </a:rPr>
              <a:t>系列单片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IF014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8058240" y="6286680"/>
            <a:ext cx="1085760" cy="571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990720"/>
            <a:ext cx="8001000" cy="32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待机方式由硬件复位终止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从休眠处恢复程序的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机器周期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部复位电路才起作用。 此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硬件禁止访问内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允许访问端口引脚。 为了防止休眠被复位终止时对端口引脚意外写入的可能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生成待机方式的指令后不应紧跟对端口引脚的写指令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不采用外部上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P1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1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置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采用外部上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应置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762120"/>
            <a:ext cx="8534160" cy="51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掉电方式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掉电方式由掉电方式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ON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。 此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振荡器停止工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掉电方式的指令成为最后执行的一条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片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特殊功能寄存器内容保持不变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掉电方式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CCm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2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6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CCma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00 μA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3 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CCma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20 μ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退出掉电方式的唯一方式是硬件复位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硬件复位将重新定义特殊功能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不影响片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复位的保持时间应足够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便振荡器能重新开始工作并稳定下来。 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没有恢复到正常工作电压之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应进行复位。     如果不采用外部上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P1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1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置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否则置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52960" y="83808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1.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闪速存储器的编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37360" y="5943600"/>
            <a:ext cx="25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程闪速存储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t10.3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5029200" cy="4367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32800" y="6400800"/>
            <a:ext cx="34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闪速存储器编程和校验时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t10.4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839080" cy="5826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396240" y="110808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4   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种编程模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10.4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241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914400"/>
            <a:ext cx="80010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 编程（写代码数据）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T89C20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程按下述步骤进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上电过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V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低电平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XTA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”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它所有引脚悬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 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高电平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P3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”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在引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3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3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3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3.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施加相应的逻辑电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定基本编程模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838080"/>
            <a:ext cx="8229600" cy="52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地址信号由内部地址计数器提供（初始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欲写入该地址中的数据加至引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1.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平升至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 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启动编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3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施加一负脉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编程内部存储器阵列或锁定位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写周期采用自定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常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2 ms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若要校验已编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降至逻辑电平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”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置引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3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3.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校验模式电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数据即可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读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编程下一个地址字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TA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施加一正脉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部地址计数器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上加载欲写入的新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838080"/>
            <a:ext cx="8001000" cy="34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重复步骤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～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改变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递增地址计数器直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储阵列全部编程或目标文件结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下电过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TA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”, R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”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悬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电。当前次编程未结束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允许开始下一次编程。如何确定一次编程操作是否结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AT89C20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了以下两种方法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914400"/>
            <a:ext cx="8077320" cy="26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查询特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T89C20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具有通过数据查询来检测写周期结束的特性。 在写期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读操作将导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1.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写入数据的补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旦写完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有输出将出现真实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时可开始下一数据编程。 利用这一特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在启动某一次编程后不断地查询写入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到查询的数据为真实数据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可判定写周期已结束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2120" y="990720"/>
            <a:ext cx="7696080" cy="37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准备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忙信号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编程期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3.3(RDY/BSY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了编程状态。当引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3.2(PROG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平升高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3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平下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USY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程结束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3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平抬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时序）。 利用查询该状态信息便可确定编程的结束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28680" y="1066680"/>
            <a:ext cx="37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1  AT89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系列单片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14360" y="1905120"/>
            <a:ext cx="40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1.1  AT89C20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性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45480" y="2476440"/>
            <a:ext cx="421128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 - 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兼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内部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编程闪速存储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寿命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循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数据保留时间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工作电压范围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7 V~6 V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全静态工作频率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Hz~24 Hz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83800" y="83808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 校验（读代码数据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61400" y="5943600"/>
            <a:ext cx="25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校验闪速存储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t10.5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444920" cy="4095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990720"/>
            <a:ext cx="78487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”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址计数器复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H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提供适当的控制信号（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时序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读取数据与编程写入数据作比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给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TA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施加正脉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址计数器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代码数据与编程写入数据作比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重复步骤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、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 直至整个存储阵列校验完毕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762120"/>
            <a:ext cx="807696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、 写锁定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锁定位完成对闪速存储器加密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前述编程模式表操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选择写锁定位模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升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 V, P3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施加编程脉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可将锁定位写入（改变模式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3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3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3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3.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输入组合来实现锁定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B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B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写入）。不能直接校验锁定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通过观察其持性是否被允许来完成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1219320"/>
            <a:ext cx="769608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、 芯片擦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编程模式选择为芯片擦除模式并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3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上施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 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脉冲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整个闪速存储器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锁定位即可被擦除。擦除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储器阵列全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838080"/>
            <a:ext cx="8001000" cy="49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、 读特征字节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特征字节表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T89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芯片的基本特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组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储于程序存储区的低端。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T89C20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芯片的特征字节位于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选择读特征字节模式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3.3=P3.4=P3.5=P3.7=“L”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采用类似校验步骤读取数据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可获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T89C20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芯片的特征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E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该产品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生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2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C2051/89C1051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程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080200" y="1032480"/>
            <a:ext cx="546120" cy="54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6 AT89C20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线编程示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t10.6" descr=""/>
          <p:cNvPicPr/>
          <p:nvPr/>
        </p:nvPicPr>
        <p:blipFill>
          <a:blip r:embed="rId1"/>
          <a:stretch/>
        </p:blipFill>
        <p:spPr>
          <a:xfrm>
            <a:off x="2666880" y="0"/>
            <a:ext cx="54244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92240" y="6094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1.7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线编程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04280" y="990720"/>
            <a:ext cx="37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2  8XC5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系列单片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905120"/>
            <a:ext cx="815364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2.1   8XC51G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特点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XC51G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种先进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C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微控制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它具有优良的性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要包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行扩展口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编程的计数器阵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片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其主要特性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片内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可编程计数阵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2×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捕捉模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脉冲宽度调制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监视定时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609480"/>
            <a:ext cx="86868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定时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具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种编程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T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具有捕捉及波特率生成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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道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具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种编程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专用监视定时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可编程串行通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进行帧错误检测、自动地址识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串行扩展通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可编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中断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设置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优先级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工作温度扩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环境温度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40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125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能正常工作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11840" y="83808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2.2   8XC51G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内部结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9960" y="594360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7 8XC51G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框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10.77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438960" cy="3429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762120"/>
            <a:ext cx="838188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 片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FR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XC51G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片内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地址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FH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特殊功能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F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地址重叠。 虽然地址相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它们在物理上是相互独立的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一条指令访问地址高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部区域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清楚此次操作是访问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单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还是访问指令中指定地址表示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F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间。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XC51G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令系统规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采用直接地址的指令均为访问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0A0H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26240" y="884160"/>
            <a:ext cx="4278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两级程序存储器锁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8×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内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可编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定时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两级中断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可编程全双工串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直接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驱动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片内精确的模拟比较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片内振荡器和时钟电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低功耗的休眠和掉电模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838080"/>
            <a:ext cx="8153280" cy="49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访问特殊功能寄存器空间中地址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A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采用间接寻址的指令为访问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区的单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A0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@R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为访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区地址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A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单元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XC51G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片内特殊功能寄存器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基础上新增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址分配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复位值如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372120" y="60948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5  SF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址分配及复位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表10.5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5632560" cy="5791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73760" y="53352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XC51G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端口及操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表10.6" descr=""/>
          <p:cNvPicPr/>
          <p:nvPr/>
        </p:nvPicPr>
        <p:blipFill>
          <a:blip r:embed="rId1"/>
          <a:stretch/>
        </p:blipFill>
        <p:spPr>
          <a:xfrm>
            <a:off x="2743200" y="914400"/>
            <a:ext cx="4640400" cy="5943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547040" y="1402200"/>
            <a:ext cx="5461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端口复用功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22120" y="8380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、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XC51G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转换器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65200" y="1371600"/>
            <a:ext cx="31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7  A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寄存器格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b10.7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931160" cy="4811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914400"/>
            <a:ext cx="8229600" cy="36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有两种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连续方式和触发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决定通道的转换次序也有两种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扫描方式和选择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它们都是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各控制位决定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连续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T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进入连续方式。 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总是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H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H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通道连续反复进行。转换结束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再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H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道开始下一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TM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E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保持不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转换将连续反复进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685800"/>
            <a:ext cx="822960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触发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AT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进入触发方式。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部引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R1G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第一个下降沿将开始对通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H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H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行一次转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转换结果送入相应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结果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RES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RES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扫描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AI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便进入扫描方式。 在此方式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依次转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通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H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H7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将转换结果送入相应的转换结果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RES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RES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AI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便进入选择方式。 在此方式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器先对前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通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H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H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某一通道（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S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S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决定）进行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将结果依次送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RES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RES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再对通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H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H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依次转换一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结果依次送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RES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RES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10.8" descr=""/>
          <p:cNvPicPr/>
          <p:nvPr/>
        </p:nvPicPr>
        <p:blipFill>
          <a:blip r:embed="rId1"/>
          <a:stretch/>
        </p:blipFill>
        <p:spPr>
          <a:xfrm>
            <a:off x="3429000" y="609480"/>
            <a:ext cx="4856040" cy="6248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547040" y="1603440"/>
            <a:ext cx="546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断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91600" y="838080"/>
            <a:ext cx="212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、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XC51G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断系统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断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533520"/>
            <a:ext cx="8229600" cy="29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部中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1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两个中断都可以由电平触发或跳变沿触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具体触发方式决定于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T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T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位的值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部中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3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两个中断都可设置为上升沿或下降沿触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具体触发方式由中断控制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I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T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T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位的值决定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部中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6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三个中断都是上升沿触发的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8880" y="6137280"/>
            <a:ext cx="37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9 EXI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断控制寄存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t10.9" descr=""/>
          <p:cNvPicPr/>
          <p:nvPr/>
        </p:nvPicPr>
        <p:blipFill>
          <a:blip r:embed="rId1"/>
          <a:stretch/>
        </p:blipFill>
        <p:spPr>
          <a:xfrm>
            <a:off x="762120" y="4952880"/>
            <a:ext cx="7893000" cy="978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914400"/>
            <a:ext cx="807732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断控制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XC51G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中断源都可通过将两个中断允许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E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对应的中断源控制位置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中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禁止中断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5600" y="548640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0 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t10.10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7855200" cy="1054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385440" y="41911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1  IE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t10.11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893000" cy="1130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8840" y="609480"/>
            <a:ext cx="516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1.2  AT89C20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部结构及引脚描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04240" y="1811520"/>
            <a:ext cx="5461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 AT89C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部结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t10.1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324480" cy="5715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685800"/>
            <a:ext cx="8534160" cy="42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 中断优先级控制及中断矢量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XC51G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中断源都可由程序指定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优先级之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断优先级决定于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P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PA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相应两位控制位编码的值。 优先级低的中断可被优先级高的中断中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不能被与其优先级相同或比它优先级低的中断中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任何中断都不能中断最高级中断。若同时接收到两个或两个以上不同优先级的中断请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中断其中最高级中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两个以上的同级中断同时提出中断请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内部规定的硬件查询次序响应中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转入对应固定矢量入口地址执行程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00920" y="609480"/>
            <a:ext cx="50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一中断优先级硬件查询次序及中断矢量地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b10.8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315200" cy="5634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144240" y="2209680"/>
            <a:ext cx="31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2   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P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格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54920" y="3200400"/>
            <a:ext cx="25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断优先级设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10.9" descr=""/>
          <p:cNvPicPr/>
          <p:nvPr/>
        </p:nvPicPr>
        <p:blipFill>
          <a:blip r:embed="rId1"/>
          <a:stretch/>
        </p:blipFill>
        <p:spPr>
          <a:xfrm>
            <a:off x="990720" y="3962520"/>
            <a:ext cx="7372080" cy="2235240"/>
          </a:xfrm>
          <a:prstGeom prst="rect">
            <a:avLst/>
          </a:prstGeom>
          <a:ln w="0">
            <a:noFill/>
          </a:ln>
        </p:spPr>
      </p:pic>
      <p:pic>
        <p:nvPicPr>
          <p:cNvPr id="127" name="t10.12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667720" cy="1447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962800" y="11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0  IP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应位控制的中断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b10.10" descr=""/>
          <p:cNvPicPr/>
          <p:nvPr/>
        </p:nvPicPr>
        <p:blipFill>
          <a:blip r:embed="rId1"/>
          <a:stretch/>
        </p:blipFill>
        <p:spPr>
          <a:xfrm>
            <a:off x="190440" y="1981080"/>
            <a:ext cx="8953560" cy="4419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21200" y="4724280"/>
            <a:ext cx="35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3   IPA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格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t10.13" descr=""/>
          <p:cNvPicPr/>
          <p:nvPr/>
        </p:nvPicPr>
        <p:blipFill>
          <a:blip r:embed="rId1"/>
          <a:stretch/>
        </p:blipFill>
        <p:spPr>
          <a:xfrm>
            <a:off x="0" y="2286000"/>
            <a:ext cx="9067680" cy="1581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705400" y="1066680"/>
            <a:ext cx="46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1  IPA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应位控制的中断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b10.11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534520" cy="4113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838080"/>
            <a:ext cx="8076960" cy="39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、 “看门狗”定时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DT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看门狗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atchdo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定时器的作用是强迫微控制器进入复位状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硬件或软件故障中解脱出来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D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计数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计数值达到最大值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必须由软件清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否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WD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产生内部复位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芯片异常复位。计数器可由软件向复位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DT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写入立即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E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E1H, WD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每个机器周期自动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305920" y="631836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9966" y="10800"/>
                </a:moveTo>
                <a:lnTo>
                  <a:pt x="23979" y="3794"/>
                </a:lnTo>
                <a:lnTo>
                  <a:pt x="2397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180240" y="1066680"/>
            <a:ext cx="40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3  8XC55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系列单片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4280" y="2057400"/>
            <a:ext cx="380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3.1  8XC55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性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743200"/>
            <a:ext cx="838224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3C55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7C55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外扩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4 KB EPROM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片内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6 B RAM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还可外扩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4 KB 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标准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定时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附加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定时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配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捕捉寄存器和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比较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路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片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762120"/>
            <a:ext cx="853452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路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分辨率的脉冲宽度调制解调器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WM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并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合用的输入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全双工异步串行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ART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2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行总线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内部监视定时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DT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中断优先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1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中断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特殊功能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FR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采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C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封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工作时钟频率可选择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2~16 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170160" y="6400800"/>
            <a:ext cx="38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14 8XC55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内部结构框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t10.1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534520" cy="5199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92520" y="533520"/>
            <a:ext cx="45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3.2 8XC55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部结构及引脚描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74320" y="640080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2 AT89C20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配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10.2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5802120" cy="5378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165800" y="1142280"/>
            <a:ext cx="54612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5 8XC55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功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t10.16" descr=""/>
          <p:cNvPicPr/>
          <p:nvPr/>
        </p:nvPicPr>
        <p:blipFill>
          <a:blip r:embed="rId1"/>
          <a:stretch/>
        </p:blipFill>
        <p:spPr>
          <a:xfrm>
            <a:off x="3581280" y="0"/>
            <a:ext cx="298476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55560" y="5335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3.3  8XC55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殊功能寄存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F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98400" y="106668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2  8XC55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特殊功能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F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表10.12" descr=""/>
          <p:cNvPicPr/>
          <p:nvPr/>
        </p:nvPicPr>
        <p:blipFill>
          <a:blip r:embed="rId1"/>
          <a:stretch/>
        </p:blipFill>
        <p:spPr>
          <a:xfrm>
            <a:off x="1066680" y="1411200"/>
            <a:ext cx="7620120" cy="5446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644200" y="76212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2  8XC55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特殊功能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F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表10.12续" descr=""/>
          <p:cNvPicPr/>
          <p:nvPr/>
        </p:nvPicPr>
        <p:blipFill>
          <a:blip r:embed="rId1"/>
          <a:stretch/>
        </p:blipFill>
        <p:spPr>
          <a:xfrm>
            <a:off x="762120" y="1233360"/>
            <a:ext cx="7924680" cy="5624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38080" y="1219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74360" y="60948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2  8XC55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特殊功能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F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表10.12.续2gif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610840" cy="5621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74360" y="114300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2  8XC55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特殊功能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F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表10.12.续3gif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316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1520" y="22096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表10.13" descr=""/>
          <p:cNvPicPr/>
          <p:nvPr/>
        </p:nvPicPr>
        <p:blipFill>
          <a:blip r:embed="rId1"/>
          <a:stretch/>
        </p:blipFill>
        <p:spPr>
          <a:xfrm>
            <a:off x="1523880" y="1074600"/>
            <a:ext cx="6309000" cy="578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06480" y="533520"/>
            <a:ext cx="52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3.4 8XC55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口及复用功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52320" y="2239200"/>
            <a:ext cx="485280" cy="34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.13   P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口复用功能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11680" y="838080"/>
            <a:ext cx="38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3.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脉冲宽度调制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W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65240" y="594360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16  PW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出功能原理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图10.16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077320" cy="4154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838080"/>
            <a:ext cx="80773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W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工作原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W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个脉冲调制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WM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W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合用一个预分频器和计数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且预分频器的分频系数决定重复频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脉冲的高低电平宽度比分别取决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WM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WM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寄存器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值范围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~25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脉冲的频率由预分频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WM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决定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WM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的重复频率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PW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下式决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17715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38840" y="1752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19160" y="471024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438280" y="5334120"/>
                <a:ext cx="45720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W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WM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325240" y="5334120"/>
            <a:ext cx="50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7 PW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输出波形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MM0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电平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典型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W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t10.1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591400" cy="3568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83400" y="838080"/>
            <a:ext cx="21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W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应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41760" y="5867280"/>
            <a:ext cx="57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8 PW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用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器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a)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拟输出缓冲电路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带光电隔离器的模拟输出电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t10.18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8001000" cy="4991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312360" y="1219320"/>
            <a:ext cx="27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1   P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口特殊功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10.1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7277040" cy="3511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66400" y="838080"/>
            <a:ext cx="25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3.6 A/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换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56400" y="5908680"/>
            <a:ext cx="44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9 8XC552  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器电路框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t10.19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867800" cy="2876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048120" y="4419720"/>
            <a:ext cx="37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20  ADC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式定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t10.20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363160" cy="817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685800"/>
            <a:ext cx="84582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进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的过程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理睬外部或软件的启动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结束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CI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将转换结果的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存放在特殊功能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存放在特殊功能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最高两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C.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C.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。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2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的实现原理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器具有自己独立的电源引脚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以及连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电阻网络的引脚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REF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EF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AV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REF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REF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0.2 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0.2 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。转换结果可由下式计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828800" y="4800600"/>
                <a:ext cx="60958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转换结果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  <m:r>
                              <m:t xml:space="preserve">−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  <m:r>
                              <m:t xml:space="preserve">−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385440" y="5943600"/>
            <a:ext cx="32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21 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换的实现原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t10.21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039160" cy="4978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79560" y="533520"/>
            <a:ext cx="41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3.7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时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捕捉比较逻辑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32840" y="553680"/>
            <a:ext cx="54612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2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捕捉比较逻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t10.22" descr=""/>
          <p:cNvPicPr/>
          <p:nvPr/>
        </p:nvPicPr>
        <p:blipFill>
          <a:blip r:embed="rId1"/>
          <a:stretch/>
        </p:blipFill>
        <p:spPr>
          <a:xfrm>
            <a:off x="1600200" y="958680"/>
            <a:ext cx="6400800" cy="5867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4920" y="685800"/>
            <a:ext cx="853416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 定时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2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XC55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的定时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的计数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它由特殊功能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MH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高字节）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ML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低字节）所组成。 它的输入可由软件编程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f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OS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输入的外部脉冲或停止计数。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作计数器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T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上的外部输入信号经过预分频器进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2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预分频器的分频系数可编程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T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上的输入脉冲频率可达每个机器周期一次方波。特殊功能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MH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ML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只读寄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复位信号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T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上的上跳变清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若允许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预分频器也同时清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, RT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由置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2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M2CON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位使能的。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生低字节溢出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溢出时产生中断请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两个中断的向量是相同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者能同时编程为中断允许或禁止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03640" y="4800600"/>
            <a:ext cx="34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23 TM2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定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t10.23" descr=""/>
          <p:cNvPicPr/>
          <p:nvPr/>
        </p:nvPicPr>
        <p:blipFill>
          <a:blip r:embed="rId1"/>
          <a:stretch/>
        </p:blipFill>
        <p:spPr>
          <a:xfrm>
            <a:off x="0" y="2438280"/>
            <a:ext cx="9153360" cy="949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914400"/>
            <a:ext cx="8077320" cy="50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M2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各位的功能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2IS1: 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溢出中断选择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2IS0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字节溢出中断选择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2ER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部复位允许。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2ER=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T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T2(P1.5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上的上升沿复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2B0: T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溢出中断标志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2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2P0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预分频器系数选择。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种选择方式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170080" y="758880"/>
            <a:ext cx="5054400" cy="256176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P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2P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频系数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                    0                             1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                    1                             2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                    0                             4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                    1                             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4000" y="3782880"/>
            <a:ext cx="7536600" cy="26298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2MS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T2MS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方式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停止计数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                  1                     T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钟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OS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12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                  0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使用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                  1                      T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钟源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  T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输入计数脉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97440" y="990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 捕捉逻辑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68920" y="3505320"/>
            <a:ext cx="31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24 CT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定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4191120"/>
            <a:ext cx="845820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各位的功能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N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N0:   CT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由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3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0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下降沿捕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P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P0: CT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3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0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上升沿捕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t10.24" descr=""/>
          <p:cNvPicPr/>
          <p:nvPr/>
        </p:nvPicPr>
        <p:blipFill>
          <a:blip r:embed="rId1"/>
          <a:stretch/>
        </p:blipFill>
        <p:spPr>
          <a:xfrm>
            <a:off x="0" y="1905120"/>
            <a:ext cx="8991720" cy="996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26960" y="609480"/>
            <a:ext cx="367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1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殊功能寄存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F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b10.2" descr=""/>
          <p:cNvPicPr/>
          <p:nvPr/>
        </p:nvPicPr>
        <p:blipFill>
          <a:blip r:embed="rId1"/>
          <a:stretch/>
        </p:blipFill>
        <p:spPr>
          <a:xfrm>
            <a:off x="1828800" y="1079640"/>
            <a:ext cx="5580000" cy="5778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99320" y="1692000"/>
            <a:ext cx="54612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2 AT89C20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28960" y="8794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 比较逻辑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97520" y="3124080"/>
            <a:ext cx="26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25 S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定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39280" y="58323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26 R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格式定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t10.25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686800" cy="939600"/>
          </a:xfrm>
          <a:prstGeom prst="rect">
            <a:avLst/>
          </a:prstGeom>
          <a:ln w="0">
            <a:noFill/>
          </a:ln>
        </p:spPr>
      </p:pic>
      <p:pic>
        <p:nvPicPr>
          <p:cNvPr id="198" name="t10.26" descr=""/>
          <p:cNvPicPr/>
          <p:nvPr/>
        </p:nvPicPr>
        <p:blipFill>
          <a:blip r:embed="rId2"/>
          <a:stretch/>
        </p:blipFill>
        <p:spPr>
          <a:xfrm>
            <a:off x="304920" y="4343400"/>
            <a:ext cx="8572320" cy="901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102840" y="281952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27 TM2I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格式定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31440" y="58672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28 IEN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格式定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t10.27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915400" cy="939960"/>
          </a:xfrm>
          <a:prstGeom prst="rect">
            <a:avLst/>
          </a:prstGeom>
          <a:ln w="0">
            <a:noFill/>
          </a:ln>
        </p:spPr>
      </p:pic>
      <p:pic>
        <p:nvPicPr>
          <p:cNvPr id="202" name="t10.28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8724960" cy="939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316320" y="4572000"/>
            <a:ext cx="27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29 I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定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t10.29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63120" cy="1092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65520" y="863640"/>
            <a:ext cx="28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3.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监视定时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0400" y="5715000"/>
            <a:ext cx="36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3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监视定时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理框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t10.30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8191800" cy="3079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380960" y="91440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主程序中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行初始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600200"/>
            <a:ext cx="8077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3  EQU  0FF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; T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地址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F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ON  EQU  87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P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地址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7H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ATCH—INTV  EQU  156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监视间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T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溢出时间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ms×100=; 200 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0880" y="914400"/>
            <a:ext cx="83822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看门狗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服务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ATCHDOG: ORL  PCON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H 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ON.4=1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允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装初值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  T3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ATCH—INTV 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间隔时间装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3                       RET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t10.31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5425920" cy="62485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298000" y="907200"/>
            <a:ext cx="54612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31 8XC55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断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4920" y="5842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3.9   8XC55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断系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272400" y="2895480"/>
            <a:ext cx="28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32 IEN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定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46720" y="5715000"/>
            <a:ext cx="28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33 IEN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定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t10.32" descr=""/>
          <p:cNvPicPr/>
          <p:nvPr/>
        </p:nvPicPr>
        <p:blipFill>
          <a:blip r:embed="rId1"/>
          <a:stretch/>
        </p:blipFill>
        <p:spPr>
          <a:xfrm>
            <a:off x="171360" y="1447920"/>
            <a:ext cx="8744040" cy="933480"/>
          </a:xfrm>
          <a:prstGeom prst="rect">
            <a:avLst/>
          </a:prstGeom>
          <a:ln w="0">
            <a:noFill/>
          </a:ln>
        </p:spPr>
      </p:pic>
      <p:pic>
        <p:nvPicPr>
          <p:cNvPr id="217" name="t10.33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8705880" cy="933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698640" y="26668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34 IP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定义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48360" y="5791320"/>
            <a:ext cx="26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35 IP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定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t10.3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534520" cy="990720"/>
          </a:xfrm>
          <a:prstGeom prst="rect">
            <a:avLst/>
          </a:prstGeom>
          <a:ln w="0">
            <a:noFill/>
          </a:ln>
        </p:spPr>
      </p:pic>
      <p:pic>
        <p:nvPicPr>
          <p:cNvPr id="221" name="t10.35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8515440" cy="1009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534040" y="609480"/>
            <a:ext cx="48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4 8XC55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断硬件查询次序及中断矢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b10.14" descr=""/>
          <p:cNvPicPr/>
          <p:nvPr/>
        </p:nvPicPr>
        <p:blipFill>
          <a:blip r:embed="rId1"/>
          <a:stretch/>
        </p:blipFill>
        <p:spPr>
          <a:xfrm>
            <a:off x="1752480" y="1015920"/>
            <a:ext cx="6477120" cy="5842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24000" y="914400"/>
            <a:ext cx="30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1.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程序存储器的加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45920" y="2209680"/>
            <a:ext cx="30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3   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种锁定位保护模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10.3" descr=""/>
          <p:cNvPicPr/>
          <p:nvPr/>
        </p:nvPicPr>
        <p:blipFill>
          <a:blip r:embed="rId1"/>
          <a:stretch/>
        </p:blipFill>
        <p:spPr>
          <a:xfrm>
            <a:off x="990720" y="3352680"/>
            <a:ext cx="7905600" cy="2149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323000" y="838080"/>
            <a:ext cx="29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3.10  I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总线简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523880"/>
            <a:ext cx="8305920" cy="26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线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hili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司开发的一种简单、 双向二线制同步串行总线。它只需要两根线（串行时钟线和串行数据线）即可在连接于总线上的器件之间传送信息。这种总线的主要特性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总线只有两根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行时钟线和串行数据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每个连到总线上的器件都可由软件以唯一的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寻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建立简单的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关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器件既可作为发送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又可作为接收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09480" y="914400"/>
            <a:ext cx="8153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它是一个真正的多主总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带有竞争检测和仲裁电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使多个主机任意同时发送而不破坏总线上的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同步时钟允许器件通过总线以不同的波特率进行通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同步时钟可以作为停止或重新启动串行口发送的握手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连接到同一总线的集成电路数只受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0 p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最大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电容的限制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>
            <a:hlinkClick r:id="" action="ppaction://hlinkshowjump?jump=firstslide"/>
          </p:cNvPr>
          <p:cNvSpPr/>
          <p:nvPr/>
        </p:nvSpPr>
        <p:spPr>
          <a:xfrm>
            <a:off x="8305920" y="631836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9966" y="10800"/>
                </a:moveTo>
                <a:lnTo>
                  <a:pt x="23979" y="3794"/>
                </a:lnTo>
                <a:lnTo>
                  <a:pt x="2397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t10.36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43800" cy="4210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32520" y="762120"/>
            <a:ext cx="29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1.5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功耗工作方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447920"/>
            <a:ext cx="8305920" cy="37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待机方式（休眠方式）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利用软件使待机方式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ON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进入空闲方式。此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处于休眠状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片内所有其它外围设备都保持工作状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片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所有特殊功能寄存器内容保持不变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待机方式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晶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OS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2 MHz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源电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6 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源电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 m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降至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 mA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3 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5 m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降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m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断或硬件复位可以终止待机方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06:59:02Z</dcterms:created>
  <dc:creator>mwz2</dc:creator>
  <dc:description/>
  <dc:language>en-US</dc:language>
  <cp:lastModifiedBy>mwz2</cp:lastModifiedBy>
  <dcterms:modified xsi:type="dcterms:W3CDTF">2003-01-24T07:28:34Z</dcterms:modified>
  <cp:revision>12</cp:revision>
  <dc:subject/>
  <dc:title>PowerPoint 演示文稿</dc:title>
</cp:coreProperties>
</file>