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B50-FC31-488A-903B-35478C0E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CDD-7229-4D3A-84C7-2F06B1D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68C-1CCA-426C-AD8B-917AA4CA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DA5-E79C-4927-8608-E5AA8C4B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78B-0C78-4CE6-896E-535C76BD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55CE-590F-41C6-AD07-A03CAD9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4C5-0D49-42DF-8133-D42AA0F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BCF7-539B-4AA5-BA6B-01137E9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C10-B4DB-48B3-BDAD-724F6FDC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79B-9CA6-458D-BC4E-CDE2332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8FC-DB7C-45D1-9D01-45F6B65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114-8A07-40D2-A9AC-2444F0C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6BB-C34B-462F-ADD8-B9C3F49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79D-EA69-42C7-8B54-5017A56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B2C8-C534-4279-9AFB-BAFCB666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E26A-AFA1-40A3-ADCF-0ECB3C7C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EB0-DD4D-4583-A16C-D9B63DE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E9C-04DE-4F2E-AC5E-9D4691C9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923-0773-4135-9C45-27931FF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4EA-47AE-4715-B685-5EFAEA1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500-039F-4DC0-A9D4-23AB201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1BC-98F4-440C-B121-E2390BF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B3E-D153-4011-B13D-3983463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3EA-9C88-4128-9BA9-3623954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855-D990-4340-9E46-492DC536E8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37DA-E1A2-4539-916D-954656D7C0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8051 MICROCONTROLL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344-F419-4A02-9F4F-D9B4D10255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3510000"/>
            <a:ext cx="7693200" cy="142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8160" y="5589720"/>
            <a:ext cx="52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1–7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Various Speeds of 8051 From Atm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9AD-518C-45F5-A89B-C647AE05A8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1981, Intel Corporation introduced an 8-bit microcontroller called the 805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icrocontroller had 128 bytes of RAM, 4K bytes of on-chip ROM, two timers, one serial port, and four ports (each 8-bits wide) all on a single chi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8051 is an 8-bit processor, meaning that the CPU can work on only 8 bits of data at a tim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larger than 8 bits has to be broken into 8-bit pieces to be processed by the CPU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28A-23B0-4DEA-A8BE-4DF0F44A6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the 805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8051 has a total of four I/O ports, each 8 bits wid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hough the 8051 can have a maximum of 64K bytes of on-chip ROM, many manufacturers have put only 4K bytes on the chi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8051 became widely popular after Intel allowed other manufacturers to make and market any flavors of the 8051 they please with the condition that they remain code-compatible with the 8051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has led to many versions of the 8051 with different speeds and amounts of on-chip ROM marketed by more than half a dozen manufacture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49C-F1A7-4FE4-A941-434BD1F35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2: OVERVIEW OF THE 8051 FAMI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761080" cy="40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9FA-A9DF-4BEB-B08E-D78A474375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8052 microcontroll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8052 is another member of the 8051 fami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8052 has all the standard features of the 8051 as well as an extra 128 bytes of RAM and an extra tim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52 has 256 bytes of RAM and 3 tim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has 8K bytes of on-chip program ROM instead of 4K byt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24C-AEAC-4D11-8F69-A83D8CF68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8031 microcontroller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chip is often referred to as a ROM-less 8051 since it has 0K bytes of on-chip RO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use this chip you must add external ROM to i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external ROM must contain the program that the 8031 will fetch and exec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OM containing the program attached to the 8031 can be as large as 64K byt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the process of adding external ROM to the 8031, you lose two por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solve this problem, you can add external I/O to the 8031. Interfacing the 8031 with memory and I/O ports such as the 8255 chip is discussed in Chapter 1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925-8973-444C-9892-894C0D162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ous 8051 microcontroller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8051 is available in different memory types, such as UV-EPROM, flash, and NV-RAM, all of'which have different part numbe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V-EPROM version of the 8051 is the 8751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flash ROM version is marketed by many companies including Atmel Corp. and Dallas Semiconducto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tmel Flash 8051 is called AT89C51, while Dallas Semiconductor calls theirs DS89C4xO (DS89C420/430/440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V-RAM version of the 8051 made by Dallas Semiconductor is called DS50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is also an OTP (one-time programmable) version of the 8051 made by various manufacture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D1B-6BE7-47E7-A5AB-92A58A789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AT89S8253 from Atmel Corpor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be using this version of the 8051 in the lab. Each student will be given a chip to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the specs of this version at http://www.atmel.com/dyn/resources/prod_documents/doc3286.p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24000" y="5157720"/>
            <a:ext cx="2305080" cy="134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80000" y="476892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FFC-78DF-456C-83E3-760B2051C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AT89S8253 from Atmel Corpo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9600" y="6165720"/>
            <a:ext cx="50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ikroe.com/en/books/8051book/ch4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F57-4C2F-41F4-B464-2435F4B35A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AT89S8253 from Atmel Corpor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910640" cy="4306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79000" y="6453360"/>
            <a:ext cx="37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gaw.ru/im/atmel/at89/AT89S8253_pic2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08A-6482-4612-A51F-D7FB6A9F5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e and contrast microprocessors and microcontroll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cribe the advantages of microcontrollers for some applica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concept of embedded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uss criteria for choosing a microcontroll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variations of speed, packaging, memory, and cost per unit and how these affect choosing a microcontroll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e and contrast the various members of the 8051 fami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e 8051 microcontrollers offered by various manufactur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E20-27D4-4602-94DE-8C2997D58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Textbook 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5BB-91DC-4AB2-AA35-1C3DD648F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controller versus general-purpose microprocess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7561440" cy="26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0520" y="6308640"/>
            <a:ext cx="81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Microprocessor System Contrasted With Microcontroller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275-E31B-4C4E-9726-D48A73E4A5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controllers for embedded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2924280"/>
            <a:ext cx="1105200" cy="3502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5600" y="5229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Some Embedded Produc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Using Microcontroll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80360" y="2924280"/>
            <a:ext cx="1130400" cy="331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499-0805-4468-A73B-0DAE9D976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oosing a microcontro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6648480" cy="22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FC1-1FB3-483E-931D-F4DAE81E7D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eria for choosing a microcontroll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390920" cy="350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89080" y="6308640"/>
            <a:ext cx="37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1–3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eatures of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919-1FF1-414C-BB09-4A35C52FD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989440"/>
            <a:ext cx="769320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43960" y="5950080"/>
            <a:ext cx="53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1–4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Comparison of 8051 Family Memb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E48-6494-4CA1-878D-C833C2F9A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3090960"/>
            <a:ext cx="7693200" cy="226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8840" y="5805360"/>
            <a:ext cx="75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1–5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Versions of 8051/52 Microcontroller From Dallas Semiconductor (Maxi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436-3D83-48B4-ABBF-E162E1279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.1: MICROCONTROLLERS AND EMBEDDED PROCESS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3209760"/>
            <a:ext cx="7693200" cy="202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94520" y="5661000"/>
            <a:ext cx="61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Table 1–6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Versions of 8051 From Atmel (All ROM Flash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D11-E644-40EB-AC79-E9B1884E05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3:18Z</dcterms:created>
  <dc:creator>mos</dc:creator>
  <dc:description/>
  <dc:language>en-US</dc:language>
  <cp:lastModifiedBy>mos</cp:lastModifiedBy>
  <dcterms:modified xsi:type="dcterms:W3CDTF">2008-10-23T02:29:54Z</dcterms:modified>
  <cp:revision>42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