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8912-FAD7-4A05-922B-BA895F796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179E-3717-4888-877D-75C2CFAD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906A-4839-4B89-80A2-DE29A6F32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3939-7EF3-4636-A0FD-BA1B59CD2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1BD3-E406-4F1B-909E-352A6DA89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0288F-0A6A-4719-AFAF-8483CDE3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095E1-90FE-4921-8D5F-7A24B7EB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3653-43CA-45FE-8DB5-84334314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87EB6-13F3-404E-BFBB-C14DF67F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5990-D3E6-4528-8A36-197FB57A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8A8F-BC5B-406A-A7B1-68E7BB21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A34A-8578-43E2-9D71-84231A10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1C5E-BE9E-4340-BF06-5FD6A9E0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E9359-D924-4BAC-8294-C83E9666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DE2D-610A-4096-97A2-8673A1DC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814D-5EE3-4627-8679-14FF03784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0B3F-3661-4CE3-8450-DC52CE058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F2C2-2311-428E-8FD8-D9F37D43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8727-93B1-4F53-8DA1-B676D3AE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CF82-9140-438F-AE8B-7375D7F0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89F9-0E9A-40B7-A61B-ABB483A7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ADAD-1BA2-44F1-8094-60674A95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DECE-818E-46C9-B58B-0240974D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DF21-1643-4105-BAE4-D1B4B434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F76C-AD87-450C-948E-611F4C4C5FC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8DE9-5518-4157-A3BE-036C1CC52A9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The 8051 Microcontroller and Embedded System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2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8051 ASSEMBLY LANGUAGE PROGRAMMING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0BB3-150E-4D94-8A20-C39EFE8A340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2.3: ASSEMBLING AND RUNNING AN 8051 PROGRAM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084720" y="2492280"/>
            <a:ext cx="2109960" cy="41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477800" y="6021360"/>
            <a:ext cx="435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gure 2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2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teps to Create a Progra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9B18-6C86-4090-B80E-395981D472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2.3: ASSEMBLING AND RUNNING AN 8051 PROGRAM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ore about "a51" and "obj" fi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"asm" file is source file and for this reason some assemblers require that this file have the “a51" extens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his file is created with an editor such as Windows Notepad or uVision edito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uVision assembler converts the a51 assembly language instructions into machine language and provides the obj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ssembler also produces the Ist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9D43-1F82-4A2D-8C5C-D4F9C8184B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2.3: ASSEMBLING AND RUNNING AN 8051 PROGRAM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st fi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lst file is useful to the programmer because it lists all the opcodes and addresses as well as errors that the assembler detec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uVision assumes that the list file is not wanted unless you indicate that you want to produce i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le can be accessed by an editor such as Note Pad and displayed on the monitor or sent to the printer to produce a hard cop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rogrammer uses the list file to find syntax erro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only after fixing all the errors indicated in the lst file that the obj file is ready to be input to the linker program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3920-AE94-4AD0-9792-664BA84A56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2.4: THE PROGRAM COUNTER AND ROM SPACE IN THE 8051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gram counter in the 805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16 bits wi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an access program addresses 0000 to FFFF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otal of 64K bytes of cod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6E18-542F-4E14-AD21-F1D63C85A0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2.4: THE PROGRAM COUNTER AND ROM SPACE IN THE 8051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Where the 8051 wakes up when it is powered up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akes up at memory address 0000 when it is powered up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irst opcode must be stored at ROM address 0000H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AA36-FF32-4B90-B145-05122380D2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2.4: THE PROGRAM COUNTER AND ROM SPACE IN THE 8051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lacing code in program R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opcode and operand are placed in ROM locations starting at memory 000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03B9-655C-4886-897E-DE75368B43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2.4: THE PROGRAM COUNTER AND ROM SPACE IN THE 8051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OM memory map in the 8051 fami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979640" y="2997360"/>
            <a:ext cx="5688000" cy="30542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487960" y="6237360"/>
            <a:ext cx="52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gure 2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3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051 On-Chip ROM Address Rang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C5D6-FA0B-4991-AF3A-2E5BA64832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2.5: 8051 DATA TYPES AND DIRECTIV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8051 data type and directiv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B (define byt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ORG (origi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EQU (equat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END direct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5200-772F-48A7-A832-5D805FA0E5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2.5: 8051 DATA TYPES AND DIRECTIV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ules for labels in Assembly langu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ach label name must be uniqu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rst character must be alphabet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served words must not be used as labels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0624-CD0A-4B67-94B0-BAAAD3B191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2.6: 8051 FLAG BITS AND THE PSW REGISTE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SW (program status word) regis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411280" y="2852640"/>
            <a:ext cx="4753080" cy="3397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843640" y="6308640"/>
            <a:ext cx="41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gure 2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4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its of the PSW Regist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A820-0EE8-470D-AAFE-68B8D1B396F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ist the registers of the 8051 microcontroll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anipulate data using the registers and MOV instruction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de simple 8051 Assembly language instruction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ssemble and run an 8051 progra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scribe the sequence of events that occur upon 8051 power-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ine programs in ROM code of the 805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plain the ROM memory map of the 805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tail the execution of 8051 Assembly language instructi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scribe 8051 data typ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plain the purpose of the PSW (program status word) regist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iscuss RAM memory space allocation in the 805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iagram the use of the stack in the 805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55F1-6CB7-43DD-AAEE-3134409820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2.6: 8051 FLAG BITS AND THE PSW REGISTE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521160" y="2362320"/>
            <a:ext cx="2325600" cy="37242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700360" y="6237360"/>
            <a:ext cx="48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able 2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1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structions That Affect Flag Bi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399E-13CE-4C4C-9B1E-E155D421C1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2.7: 8051 REGISTER BANKS AND STAC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AM memory space allocation in the 805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292720" y="2852640"/>
            <a:ext cx="2579760" cy="3827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336320" y="5950080"/>
            <a:ext cx="293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gure 2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5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AM Allocation in the 805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455A-451C-45C5-834C-8F2E14C50AD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2.7: 8051 REGISTER BANKS AND STAC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egister banks in the 805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2852640"/>
            <a:ext cx="6936120" cy="29480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767600" y="6093000"/>
            <a:ext cx="64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gure 2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6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051 Register Banks and their RAM Address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F253-7F42-4294-A5E5-AF38967BED8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2.7: 8051 REGISTER BANKS AND STAC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How to switch register ban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124000" y="3141720"/>
            <a:ext cx="5973840" cy="21384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917800" y="5734080"/>
            <a:ext cx="40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able 2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2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SW Bits Bank Selec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E751-D9E2-40CB-A8D4-2F3EA0B6287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2.7: 8051 REGISTER BANKS AND STAC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tack in the 805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ection of RAM used to store information temporaril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uld be data or an addre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PU needs this storage area since there are only a limited number of register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0522-5506-4CC3-9A4E-A0C14101462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2.7: 8051 REGISTER BANKS AND STAC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Viewing registers and memory with a simula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708360" y="2924280"/>
            <a:ext cx="4800600" cy="36734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118880" y="5445000"/>
            <a:ext cx="256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gure 2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7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gister’s Screen from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oView 32 Simulat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6B71-788F-4D6E-B87E-1B572D80ACA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2.7: 8051 REGISTER BANKS AND STAC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479680" y="2362320"/>
            <a:ext cx="4410000" cy="3724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551240" y="6237360"/>
            <a:ext cx="69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gure 2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8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28-Byte Memory Space from ProView 32 Simulat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9531-E731-48A3-BD50-5A0FFF72193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2.7: 8051 REGISTER BANKS AND STAC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538440" y="2362320"/>
            <a:ext cx="2292480" cy="3724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487600" y="6308640"/>
            <a:ext cx="54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gure 2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9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gister’s Screen from Keil Simulat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2917-9DE7-4FE2-B83C-21EAD31FEB9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2.7: 8051 REGISTER BANKS AND STAC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38080" y="2808360"/>
            <a:ext cx="7693200" cy="2832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622520" y="6093000"/>
            <a:ext cx="627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gure 2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10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28-Byte Memory Space from Keil Simulat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8C91-2B16-487C-9D14-1382B2E72B2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xt 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Lecture Problems Textbook Chapter 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swer as many questions as you can and submit via MeL before the end of the lectur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roteus Exercise Textbook Chapter 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 as much of the Proteus exercise as you can and submit via MeL before the end of the lectur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8256-9E75-4E79-B3FB-B24110D6C3C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CTION 2.1: INSIDE THE 805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egis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292720" y="2492280"/>
            <a:ext cx="1816200" cy="4187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262520" y="5805360"/>
            <a:ext cx="35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Figure 2–1a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ome 8-bit Registers of the 805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1973-5561-43C9-8520-8B1581A188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CTION 2.1: INSIDE THE 805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egis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08000" y="3429000"/>
            <a:ext cx="6504120" cy="1868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845800" y="5877000"/>
            <a:ext cx="461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Figure 2–1b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ome 8051 16-bit Regist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EBC4-C934-4520-A8C9-BE8A94611F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CTION 2.1: INSIDE THE 805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ost widely used registers are A, B, R0, R1, R2, R3, R4, R5, R6, R7, DPTR and P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ll registers are 8-bits, except DPTR and the program counter which are 16 b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egister A is used for all arithmetic and logic instruc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mple instructions MOV and AD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7A8B-4650-432E-86E7-D4F5B2FBEA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CTION 2.1: INSIDE THE 805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OV instru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OV destination, source    ;copy source to destinatio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V A,#55H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load value 55H into reg 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V R0,A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copy contents of A into R0 (A=R0=55H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V R1,A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copy contents of A into R1 (A=R0=R1=55H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V R2,A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copy contents of A into R2 (A=R0=R1=R2=55H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V R3,#95H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load value 95H into R3 (R3=95H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V A,R3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copy contents of R3 into A (A=R3=95H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8095-61E2-4E46-BB4F-274F819E25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CTION 2.1: INSIDE THE 805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DD instru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DD A, source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;ADD the source operand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                           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;to the accumulat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OV A,#25H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;load 25H into 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OV R2,#34H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;load 34H into R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DD A,R2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;add R2 to accumulato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xecuting the program above results in A = 59H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65A8-51E7-4109-A668-B8D646E304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2.2: INTRODUCTION TO 8051 ASSEMBLY PROGRAMMING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Structure of Assembly languag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ORG 0H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;start (origin) at 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MOV R5,#25H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;load 25H into R5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MOV R7,#34H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;load 34H into R7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MOV A,#0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;load 0 into 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ADD A,R5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;add contents of R5 to A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;now A = A + R5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ADD A,R7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;add contents of R7 to A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;now A = A + R7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ADD A, #12H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;add to A value 12H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;now A = A + 12H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HERE: SJMP HERE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;stay in this loop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END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;end of asm source fil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Program 2-1: Sample of an Assembly Language Progra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3025-4D30-4BD2-9281-B4080FB504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2.3: ASSEMBLING AND RUNNING AN 8051 PROGRAM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n Assembly language instruction consists of four field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[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bel 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]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mnemonic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[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operand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]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[;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comme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]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6B83-358B-4C69-940B-E67966D375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4:08:15Z</dcterms:created>
  <dc:creator>mos</dc:creator>
  <dc:description/>
  <dc:language>en-US</dc:language>
  <cp:lastModifiedBy>mos</cp:lastModifiedBy>
  <dcterms:modified xsi:type="dcterms:W3CDTF">2008-10-25T05:42:53Z</dcterms:modified>
  <cp:revision>58</cp:revision>
  <dc:subject/>
  <dc:title>The 8051 Microcontroller and Embedded Syst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