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5AA-EE3B-44E7-87DE-92FC17AD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FB8-57CE-41A9-8B00-E2FBE85B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A13-ECB5-47EC-A326-72B8828E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939B-DDBB-4D3E-8C71-584983F5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2366-053B-46EE-8889-DE1871C0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27FE-CE21-4611-9243-4194C6B9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937C-6B1B-49AC-9DA6-F2E4A993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C4A9-9185-4FAD-A20F-F1327E4A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9F22-7898-4A6E-814A-B20AB46B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DB84-D774-4FF1-B654-EA272921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C0A4-D6C0-443E-B5C8-C5F127DC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C75-621F-45D1-8AF6-668227CE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49A8-B820-44BB-98CE-92038AEF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6930-076A-42DD-84BF-8EBD083E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D4CC-DCB6-4975-8093-2F4989B9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B937-4B9A-45DD-BD6F-3FB607EC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A3B0-60E5-4AD8-BCE6-65BD4BE3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784-F932-435B-9924-5DA3FB71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5B9-ED26-44DA-AABE-FA96DC02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C02-FEB0-45D1-A065-96FE6015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1A9-3701-4855-9390-F1F14C00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B71-B137-4D91-B350-EACD7D6E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BD4-846F-48C6-8834-28A4C67D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A5C-C691-4136-8AF6-1C292593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A2BE-DEA8-46E0-9FB2-DDF8A527FF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BB8-DD0C-41A4-AF38-F1BA27C49F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8051 Microcontroller and Embedded System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8051 TIMER PROGRAMMING IN ASSEMBL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E334-8148-4A1A-9F0B-8B7E924AA0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ock source for ti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imer needs a clock pulse to ti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/T = 0, the crystal frequency attached to the 8051 is the source of the clock for the tim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requency for the timer is always 1/12th the frequency of the crystal attached to the 805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TAL = 11.0592 MHz allows the 8051 system to communicate with the PC with no err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our case, the timer frequency is 1MHz since our crystal frequency is 12MHz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BFE-4C67-4F3B-A6E3-7406D37157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de 1 programm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6-bit timer, values of 0000 to FFFF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 and TL are loaded with a 16-bit initial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imer started by "SETB TR0" for Timer 0 and "SETB TR1" for Timer 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imer count ups until it reaches its limit of FFFF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lls over from FFFFH to 0000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ts TF (timer fla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this timer flag is raised, can stop the timer with "CLR TR0" or "CLR TR1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fter the timer reaches its limit and rolls over, the registers TH and TL must be reloaded with the original value and TF must be reset to 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8A6-F6C9-42B6-ACC3-A425438424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not needed for quiz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2768760"/>
            <a:ext cx="7693200" cy="2911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70880" y="6021360"/>
            <a:ext cx="54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9–5a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r 0 with External Input (Mode 1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EA8-2C41-436A-A678-41B00628DF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for information onl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2789280"/>
            <a:ext cx="7693200" cy="2870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440" y="6165720"/>
            <a:ext cx="54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9–5b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r 1 with External Input (Mode 1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0CA-39CA-490A-80D9-4713CB1CE1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eps to program in mode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t timer mode 1 or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t TL0 and TH0 (for mode 1 16 bit mod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t TH0 only (for mode 2 8 bit auto reload mod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un the ti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nitor the timer flag b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7DF-A730-4913-85B7-F19704C29C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27640" y="979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xample 9-4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In the following program, we are creating a square wave of 50% duty cycle (with equal portions high and low) on the P1.5 bit. 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Timer 0 is used to generate the time dela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7993080" cy="328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E9A-4BA8-44BC-87A2-2D1838619E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2764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Example 9-9</a:t>
            </a: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The following program generates a square wave on pin P 1.5 continuously using Timer 1 for a time delay. Find the frequency of the square wave if XTAL = 11.0592 MHz. In your calculation do not include the overhead due to the timer setup instructions in the loop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481800" cy="42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8EC-FE4B-4468-93C4-7AAA4CA267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nding values to be loaded into the tim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XTAL = 11.0592 MHz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12MHz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vide the desired time delay by 1.085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1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)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to get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65536 –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n  =  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vert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to hex yyx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t TL = xx and TH = y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AD5-7C1B-42E1-9288-C173C42467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xample 9-12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ssuming XTAL = 11.0592 MHz, write a program to generate a square wave of 50 Hz frequency on pin P2.3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 = 1/50 Hz = 20 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/2 of it for the high and low portions of the pulse = 10 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 ms / 1.085 us = 921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5536 - 9216 = 56320 in decimal = DC00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L = 00 and TH = D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alculation for 12MHz crystal uses the same ste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36D-C29F-446D-BE5E-B310EA5483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xample 9-12 (cont)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ssuming XTAL = 11.0592 MHz, write a program to generate a square wave of 50 Hz frequency on pin P2.3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8064720" cy="30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5BD-F586-4871-B21A-F028327E29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the timers of the 8051 and their associated regist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various modes of the 8051 tim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gram the 8051 timers in Assembly to generate time del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5F7-635E-4532-8DCC-93AA15580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nerating a large time del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ze of the time delay depend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ystal frequen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imer's 16-bit register in mode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rgest time delay is achieved by making both TH and TL zer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if that is not enough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46C-73EA-430A-8ECA-6B27C3D0F9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ing Windows calculator to find TH, T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ndows scientific calculator can be use to find the TH, TL val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ts say we would like to find the TH, TL values for a time delay that uses 35,000 clocks of 1.085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44880" indent="-339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en scientific calculator and select decim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44880" indent="-339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ter 35,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44880" indent="-339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lect hex - converts 35,000 to hex 88B8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44880" indent="-339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lect +/- to give -35000 decimal (7748H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44880" indent="-339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lowest two digits (48) of this hex value are for TL and the next two (77) are for TH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4A8-BF39-4CF1-A57A-32DC298D2D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xample 9-13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xamine the following program and find the time delay in seconds. Exclude the time delay due to the instructions in the loop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7777440" cy="410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CB6-2684-4E75-BA19-C156F9702C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for information onl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ks like mode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3-bit timer instead of 16­b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3-bit counter hold values 0000 to 1FFF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en the timer reaches its maximum of 1FFFH, it rolls over to 0000, and TF is s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58A-2BF3-4D16-B12A-C70CC93F2D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de 2 program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-bit timer, allows values of 00 to FF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 is loaded with the 8-bit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 copy is given to T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imer is started by ,"SETB TR0" or "SETB TR1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arts to count up by incrementing the TL regis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unts up until it reaches its limit of FF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hen it rolls over from FFH to 00, it sets high T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L is reloaded automatically with the value in 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 repeat, clear T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de 2 is an auto-reload m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29A-9C61-4C89-BAEE-1CCE734C0D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eps to program in mode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oad TMOD, select mode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oad the 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rt ti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nitor the timer flag (TF) with "JNB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et out of the loop when TF=1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ear T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o back to Step 4 since mode 2 is auto-reloa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C25-BB93-42DE-B754-F406EB29D4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27640" y="1269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xample 9-14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ssuming that XTAL = 11.0592 MHz, find (a) the frequency of the square wave generated on pin P1.0 and (b) the smallest frequency achievable in this program, and the TH value to do that.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8066160" cy="272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3C4-FBB6-40A5-94DA-28668C9D2B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ssemblers and negative val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 let the assembler calculate the value for TH and TL which makes the job eas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"MOV TH1, # -100", the assembler will calculate the -100 = 9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"MOV TH1,#high(-10000) 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"MOV TL1,#low(-10000) 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20F-1291-4F03-8EA2-5A5CB58664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for information onl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/T bit in TMOD regi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ed as a timer, the 8051's crystal is used as the source of the fre­q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ed as a counter, pulse outside the 8051 increments the TH, TL regi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unter mode, TMOD and TH, TL registers are the same as for the ti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mer modes are the same as w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683-CC91-4DB2-BF92-96378E2BF9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for information onl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/T bit in TMOD regis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/T bit in the TMOD register decides the source of the clock for the tim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/T = 0, timer gets pulses from cryst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/T = 1, the timer used as counter and gets pulses from outside the 80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/T = 1, the counter counts up as pulses are fed from pins 14 and 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ins are called T0 (Timer 0 input) and T1 (Timer 1 inpu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se two pins belong to port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r 0, when C/T = 1, pin P3.4 provides the clock pulse and the counter counts up for each clock pulse coming from that p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r 1, when C/T = 1 each clock pulse coming in from pin P3.5 makes the counter count 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3A2-F216-415B-8956-4AC20E8316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asic registers of the tim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mer 0 and Timer 1 are 16 bits w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ach 16-bit timer is accessed as two separate registers of low byte and high byte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9D2-15C1-4BD7-BFC5-304E6B7DC5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3146400"/>
            <a:ext cx="7693200" cy="2155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13080" y="5805360"/>
            <a:ext cx="52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9–1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rt 3 Pins Used For Timers 0 and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345-729C-4067-95E1-E2A80075B1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7640" y="979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Example 9-18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ssuming that clock pulses are fed into pin T1, write a program for counter 1 in mode 2 to count the pulses and display the state of the TL1 count on P2.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for information only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11280" y="6151680"/>
          <a:ext cx="5256360" cy="706320"/>
        </p:xfrm>
        <a:graphic>
          <a:graphicData uri="http://schemas.openxmlformats.org/drawingml/2006/table">
            <a:tbl>
              <a:tblPr/>
              <a:tblGrid>
                <a:gridCol w="525636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2 is connected to 8 LEDs and input T1 to pulse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6769080" cy="3016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35640" y="5084640"/>
            <a:ext cx="2114640" cy="9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7667640" y="5300640"/>
          <a:ext cx="1681560" cy="569880"/>
        </p:xfrm>
        <a:graphic>
          <a:graphicData uri="http://schemas.openxmlformats.org/drawingml/2006/table">
            <a:tbl>
              <a:tblPr/>
              <a:tblGrid>
                <a:gridCol w="168156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LE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3D3-5446-44B3-9081-7118A72476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34920" y="2362320"/>
            <a:ext cx="7497720" cy="3724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8880" y="6237360"/>
            <a:ext cx="52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gure 9–6     Timer 0 with External Input (Mode 2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688-9553-4CEC-B134-144F4847C8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05040" y="2362320"/>
            <a:ext cx="7559640" cy="3724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054160" y="6165720"/>
            <a:ext cx="52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gure 9–7     Timer 1 with External Input (Mode 2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178-59B3-463A-98CD-821C291ACA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34920" y="2362320"/>
            <a:ext cx="749772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DAC-9433-4B98-B075-1E99CD1458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5040" y="2362320"/>
            <a:ext cx="755964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DE5-3C51-4EBE-9B3B-902002669DE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68600" y="2362320"/>
            <a:ext cx="6030720" cy="3724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41800" y="6308640"/>
            <a:ext cx="52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9–1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rt 3 Pins Used For Timers 0 and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B54-26E7-4387-A73D-C4F01078DC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CON regis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0 and TR1 flags turn on or off the tim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its are part of a register called TCON (timer contro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pper four bits are used to store the TF and TR bits of both Timer 0 and Timer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er four bits are set aside for controlling the interrupt b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"SETB TRl" and "CLR TRl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"SETB TCON. 6" and "CLR TCON. 6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BB8-8BB7-4BAE-8E3C-F2E08AEC75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68600" y="2362320"/>
            <a:ext cx="6030720" cy="3724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74880" y="6237360"/>
            <a:ext cx="77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able 9–2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quivalent Instructions for the Timer Control Register (TCO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977-D7A8-4B30-BBEF-60742282EB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case of GATE = 1 in TM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ATE = 0, the timer is started with instruction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"SETB TR0" and "SETB TR1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ATE = 1, the start and stop of the timers are done externally through pins P3.2 and P3.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llows us to start or stop the timer externally at any time via a simple swit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12A-C212-44D8-88E4-77F49DC97D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mer 0 regi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yte register is called TL0 (Timer 0 low byte) and the high byte register is referred to as TH0 (Timer 0 high byt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an be accessed like any other register, such as A, B, R0, R1, R2, etc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"MOV TL0, #4 FH" moves the value 4FH into TL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"MOV R5, TH0" saves TH0 (high byte of Timer 0) in R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6CB-9048-45E8-A570-04D79C2A16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878120" y="2362320"/>
            <a:ext cx="5613120" cy="3724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205080" y="61657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9–8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r/Counter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287-44C1-4911-B7BC-8D4BA78FF32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2: COUNTER PROGRAMM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71640" y="2362320"/>
            <a:ext cx="5626080" cy="3724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349440" y="61657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9–9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r/Counter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31E-A2D2-4195-BCE6-A50A334C24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ecture Problems Textbook Chapter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swer as many questions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us Exercis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ea typeface="Angsana New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as much of the Proteus exercise as you can and submit via MeL before the end of the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D65-3D51-4985-BE41-A182E4B042E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3727440"/>
            <a:ext cx="7693200" cy="993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60360" y="5013360"/>
            <a:ext cx="34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9–1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r 0 Regist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1B7-2EAB-4774-877E-80B16536FA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mer 1 regi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lso 16 b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plit into two bytes TL1 (Timer 1 low byte) and TH1 (Timer 1 high by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cessible in the same way as the registers of Timer 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33E-5BF5-41A8-BED1-3189DE4108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7715160" cy="106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05080" y="5157720"/>
            <a:ext cx="34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9–2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r 1 Regist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C5E-7C06-469F-841C-7C11B8661E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MOD (timer mode) regis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imers 0 and 1 use TMOD register to set operation mode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only learn Mode 1 and 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-bit regist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er 4 bits are for Timer 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pper 4 bits are for Timer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er 2 bits are used to set the timer m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only learn Mode 1 and 2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pper 2 bits to specify the ope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only learn timer operatio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8F9-5709-455E-97A5-16CBEE8491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TION 9.1: PROGRAMMING 8051 TIM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752720" cy="380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77440" y="630864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gure 9–3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MOD Regis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5A1-3E30-43BE-9D77-F7D771CC0F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4:55:34Z</dcterms:created>
  <dc:creator>mos</dc:creator>
  <dc:description/>
  <dc:language>en-US</dc:language>
  <cp:lastModifiedBy>mos</cp:lastModifiedBy>
  <dcterms:modified xsi:type="dcterms:W3CDTF">2009-01-07T13:37:09Z</dcterms:modified>
  <cp:revision>134</cp:revision>
  <dc:subject/>
  <dc:title>The 8051 Microcontroller and Embedde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