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14.jpeg" ContentType="image/jpe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10.png" ContentType="image/png"/>
  <Override PartName="/ppt/media/image6.png" ContentType="image/png"/>
  <Override PartName="/ppt/media/image7.jpeg" ContentType="image/jpeg"/>
  <Override PartName="/ppt/media/image5.png" ContentType="image/png"/>
  <Override PartName="/ppt/media/image8.jpeg" ContentType="image/jpeg"/>
  <Override PartName="/ppt/media/image13.jpeg" ContentType="image/jpeg"/>
  <Override PartName="/ppt/media/image9.png" ContentType="image/png"/>
  <Override PartName="/ppt/media/image1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36D31-432C-4E2B-A1D7-73E6721C5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11CB0-D824-45D8-80C4-9A2B16C17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7FE94-5BBA-490B-AE6D-6F23A6280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C709C-F945-4802-87BD-12D6F7C6C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46CAA-37BE-4DAE-97B9-720BC1943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209BC-B22D-4489-8373-486394916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22FFD-E98A-415D-B00E-1CB7BBFAF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9FF4B-610D-4994-B9B1-BF1C9B8A0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DCE99-54E0-4FA7-AEB3-84C79A35D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29B05-3841-467A-AEF9-9EF604977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93A6F-2A97-476A-AB54-8E55B5391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5F439-5FC3-4151-9399-360DE859D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E9165-995B-44A0-B9BC-CF5157852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940C3-47C9-4F94-9FC8-ABC1172BC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6DA59-5633-4989-8517-7A8DAC340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A7D88-448B-4B52-A786-26804D6B9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4F008-8717-4D2F-B3F7-C7EDFC1AC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7FDC0-57AE-452F-B1F5-28F5B82C0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6209F-102E-4672-9A84-972340F69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A94B7-68F3-48A0-ACD6-D4B1468AF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F37ED-FFC1-442D-A2F2-C551221A3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2119E-3165-491C-A8C0-AE1D94591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F736E-D20D-4548-B485-0C07CF90B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8F89E-865F-4568-BD38-D4E5B1E3A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0CD82-E93A-4EAC-B942-85443FDE9357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7CF6E-8793-442C-9D1A-EEEA83E3A913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The 8051 Microcontroller and Embedded Systems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673160" y="2927520"/>
            <a:ext cx="421956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HAPTER 6 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ARITHMETIC, LOGIC INSTRUCTIONS, AND PROGRAMS 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5123E-3882-486D-A478-84FA0AE547B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BCD (binary coded decimal) number system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DA instruc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MOV A,#47H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;A=47H first BCD operand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MOV B,#25H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;B=25 second BCD operand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ADD A,B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;hex (binary) addition (A=6CH)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DA A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;adjust for BCD addition (A=72H)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A A must be used after the addition of BCD operand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mportant to note that DA A works only after an ADD instruction, it will not work after the INC instruction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4E3A4-C039-41BF-A482-3B0C6BDB988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Subtraction of unsigned numbers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UBB A, source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;A = A - source – C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In the 8051 we have only have subtract with borrow SUBB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There are two cases for the SUBB instruction: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(1) with CY = 0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(2) with CY = 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7163F-0C57-479A-BB06-7832CA8DAEA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Subtraction of unsigned numbers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258920" y="2421000"/>
            <a:ext cx="6553080" cy="4046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9E342-E5AF-4B95-B715-92747B494B9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ubtraction of unsigned number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f the CY = 0 after the execution of SUBB, the result is positive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f CY = 1, the result is negative and the destination has the 2's complement of the result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Normally, the result is left in 2's complement, but the CPL (complement) and INC instructions can be used to change it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e CPL instruction performs the 1's complement of the operand; then the operand is incremented (INC) to get the 2's complement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B63CB-B740-46BD-9A37-C5A5AC5B241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ubtraction of unsigned number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SUBB (subtract with borrow) when CY = 1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763640" y="2997360"/>
            <a:ext cx="6134040" cy="368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0079E-84F5-4CCA-AC5B-286035B7F95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UNSIGNED MULTIPLICATION AND DIVISION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In multiplying or dividing two numbers in the 8051, the use of registers A and B is required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The multiplication and division instructions work only with these two registers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32D2A-0D1F-4FE5-8079-D4C144536FA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Multiplication of unsigned number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826920" y="256500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e 8051 supports byte-by-byte multiplication only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e bytes are assumed to be unsigned data.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MUL AB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;A x B, place 16-bit result in B and 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fter multiplication, the result is in the A and B register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e lower byte is in A, and the upper byte is in B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MOV A,#25H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;load 25H to reg. 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MOV B,#65H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;load 65H in reg. B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MUL AB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;25H * 65H = E99 where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;B = 0EH and A = 99H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93734-7F97-4084-A00E-B6204B81AD0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Multiplication of unsigned number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116000" y="3429000"/>
            <a:ext cx="7416720" cy="765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2055600" y="5300640"/>
            <a:ext cx="599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Arial"/>
              </a:rPr>
              <a:t>Table 6–1     </a:t>
            </a:r>
            <a:r>
              <a:rPr b="0" lang="en-US" sz="1800" spc="-1" strike="noStrike">
                <a:solidFill>
                  <a:srgbClr val="006666"/>
                </a:solidFill>
                <a:latin typeface="Arial"/>
              </a:rPr>
              <a:t>Unsigned Multiplication Summary (MUL AB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33641-7C92-49F6-BD96-54CB23D2159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ivision of unsigned number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 the division of unsigned numbers, the 8051 supports byte over byte only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DIV AB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;divide A by B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numerator must be in register A and the denominator must be in B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fter the DIV instruction is performed, the quotient is in A and the remainder is in B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CF3C4-46FA-485B-9F1C-B94270E00E9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ivision of unsigned number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MOV A,#95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;load 95 into 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MOV B,#10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;load 10 into B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DIV AB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;now A = 09 (quotient) and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;B = 05 (remainder)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s instruction always makes CY = 0 and OV = 0 if the denominator is not 0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f the denominator is 0 (B = 0), OV = 1 indicates an error, and CY = 0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e standard practice in all microprocessors when dividing a number by 0 is to indicate in some way the invalid result of infinity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n the 805 I, the OV flag is set to 1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6A24B-48B6-4A3A-959D-0AEC760CEFD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OBJECTIV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Define the range of numbers possible in 8051 unsigned data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Code addition and subtraction instructions for unsigned data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Perform addition of BCD data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Code 8051 unsigned data multiplication and division instructions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Code 8051 Assembly language logic instructions AND, OR, and EX-OR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Use 8051 logic instructions for bit manipulation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Use compare and jump instructions for program control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Code 8051 rotate instruction and data serialization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Explain the BCD (binary coded decimal) system of data representation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Contrast and compare packed and unpacked BCD data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Code 8051 programs for ASCII and BCD data conversion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Code 8051 programs to create and test the checksum byte</a:t>
            </a:r>
            <a:br>
              <a:rPr sz="2400"/>
            </a:b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20A58-3388-43D6-872D-5B9DE138BFF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Division of unsigned numbers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332000" y="3429000"/>
            <a:ext cx="7345440" cy="93672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2414880" y="5229360"/>
            <a:ext cx="537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Arial"/>
              </a:rPr>
              <a:t>Table 6–2     </a:t>
            </a:r>
            <a:r>
              <a:rPr b="0" lang="en-US" sz="1800" spc="-1" strike="noStrike">
                <a:solidFill>
                  <a:srgbClr val="006666"/>
                </a:solidFill>
                <a:latin typeface="Arial"/>
              </a:rPr>
              <a:t>Unsigned Division Summary (DIV AB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3294C-A026-4491-9F54-BC01F90D78C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34480" y="834120"/>
            <a:ext cx="892152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SECTION 6.2: SIGNED NUMBER CONCEPTS AND ARITHMETIC OPERATIONS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Concept of signed numbers in computer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Computers must be able to accommodate sign numbers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Computer scientists have devised the following arrangement for the representation of signed positive and negative numbers: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he most significant bit (MSB) is set aside for the sign (+ or -), while the rest of the bits are used for the magnitude.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he sign is represented by 0 for positive (+) numbers and 1 for negative (- ) numbers.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EB59F-23E3-4472-8487-9168C86BD61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Signed 8-bit operand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In signed byte operands, D7 (MSB) is the sign and D0 to D6 are set aside for the magnitude of the number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If D7 = 0, the operand is positive, and if D7 = 1, it is negativ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3851280" y="4869000"/>
            <a:ext cx="2857320" cy="1514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C09FB-CEFF-4187-B618-19F33D9CB91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Positive number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The range of positive numbers that can be represented is 0 to +127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If a positive number is larger than +127, a 16-bit size operand must be used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0AAD2-DD0E-4151-A8A6-81B471D8B9E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Negative number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For negative numbers, D7 is1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The magnitude is represented in its 2's complement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To convert to negative number representation (2's complement)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. Write the magnitude of the number in 8-bit binary (no sign)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. Invert each bit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3. Add 1 to it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4F0EC-A7DC-4F8B-92B7-1AFB7BB85FC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827640" y="12690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Overflow problem in signed number operations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When using signed numbers, a serious problem arises that must be dealt with. This is the overflow problem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The 8051 indicates the existence of an error by raising the OV (overflow) flag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If the result of an operation on signed numbers is too large for the register, an overflow has occurred and the programmer must be notified.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1E22D-46A3-4577-BFEB-9B8147F012B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mpare instruc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JNE destination,source,relative addres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1619280" y="3068640"/>
            <a:ext cx="6200640" cy="3324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B71A0-C332-4887-8B65-B715B3429215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SECTION 6.3: LOGIC AND COMPARE INSTRUCTION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Compare instruction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1258920" y="3500280"/>
            <a:ext cx="6705720" cy="193356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2341800" y="5950080"/>
            <a:ext cx="556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Table 6–3    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Carry Flag Setting For CJNE Instructio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A45ED-8B41-426E-BE34-AD26BDF3FB14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SECTION 6.4: ROTATE INSTRUCTION AND DATA SERIALIZATION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Rotating through the carr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In the 8051 the rotation instructions RL, RR, RLC, and RRC are designed to rotate the accumulator right or left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To rotate a byte the operand must be in register A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There are two type of rotations. One is a simple rotation of the bits of A, and the other is a rotation through the carry.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D5695-57E2-4ECE-931D-DE06D43AFCEC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erializing dat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Serializing data is a way of sending a byte of data one bit at a time through a single pin of microcontroller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There are two ways to transfer a byte of data serially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. Using the serial port. The details of serial port data transfer are discussed in Chapter 10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2. The second method of serializing data is to transfer data one bit at a time and control the sequence of data and spaces in between them.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In many new devices such as LCD, ADC, and ROM, the serial versions of these devices are becoming popular since they take less space on a printed circuit board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42B76-2BFF-44B9-9B44-27D505744C04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Addition of unsigned number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The form of the ADD instruction i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ADD A, source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;A = A + source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2124000" y="3284640"/>
            <a:ext cx="5689800" cy="3338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4B2B5-A692-4AF8-A709-F6715250C51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erializing a byte of dat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1979640" y="2421000"/>
            <a:ext cx="4968720" cy="4268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E04FD-7527-48B6-AB20-4FC88B109DE0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ingle-bit operations with C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1619280" y="2852640"/>
            <a:ext cx="6431040" cy="347184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2774160" y="6308640"/>
            <a:ext cx="452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Table 6–4    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Carry Bit-Related Instruction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9B372-3713-4DE6-95A5-0870672C4128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ASCII number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1476360" y="2852640"/>
            <a:ext cx="6791400" cy="330696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3134160" y="6308640"/>
            <a:ext cx="415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Table 6–5    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ASCII Code for Digits 0–9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DFAD8-6556-4531-8E57-005A2860B428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hecksum byte in ROM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To ensure the integrity of the ROM contents, every system must perform the checksum calculation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The process of checksum will detect any corruption of the contents of ROM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The checksum byte is an extra byte that is tagged to the end of a series of bytes of data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To calculate the checksum byte of a series of bytes of data, the following steps can be taken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.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dd the bytes together and drop the carries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2. Take the 2's complement of the total sum; this is the checksum byte, which becomes the last byte of the series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6C656-60B8-4070-AF62-A53099B76E42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hecksum byte in ROM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To perform the checksum operation, add all the bytes, including the check­sum byte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The result must be zero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If it is not zero, one or more bytes of data have been changed (corrupted).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9F266-330B-40F4-9ACD-E0F6E5595EA0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Next …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Lecture Problems Textbook Chapter 6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nswer as many questions as you can and submit via MeL before the end of the lecture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Proteus Exercise 6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o as much of the Proteus exercise as you can and submit via MeL before the end of the lecture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51FDA-7D35-4186-9484-B101574010C7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Arial"/>
              </a:rPr>
              <a:t>Addition of individual bytes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124000" y="2492280"/>
            <a:ext cx="5162760" cy="4048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20F9F-4D68-4671-9D04-0E96BC6E5E7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DDC and addition of 16-bit number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547640" y="2565360"/>
            <a:ext cx="6153480" cy="3210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E5939-51F3-47FB-846A-F55CC0634D7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BCD (binary coded decimal) number system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Unpacked BC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The lower 4 bits of the number represent the BCD number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The rest of the bits are 0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For example, "0000 1001" and "0000 0101" are unpacked BCD for 9 and 5, respectively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Unpacked BCD requires 1 byte of memory or an 8-bit register to contain it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4AC26-DF63-452C-97D6-5055A26C972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SECTION 6.1: ARITHMETIC INSTRUCTION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Unpacked BC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435640" y="2565360"/>
            <a:ext cx="2509920" cy="375624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2486160" y="5877000"/>
            <a:ext cx="273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Figure 6–1    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BCD Cod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8BB22-5B95-4067-ACF4-581B93D56B4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BCD (binary coded decimal) number system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Packed BC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 single byte has two BCD numbers in it, one in the lower 4 bits, and one in the upper 4 bits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or example, "0101 1001" is packed BCD for 59H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t takes only 1 byte of memory to store the packed BCD operand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ts more efficient than unpacked BCD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EDA17-76CF-4B68-BD4D-8BAB7E8B9F8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BCD (binary coded decimal) number system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ere is a problem with adding BCD number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dding two BCD numbers must give a BCD result.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fter adding packed BCD numbers, the result is no longer BCD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MOV A, #17BCD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DD A,#28BCD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;A = 3F which is not BCD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;should be 17 + 28 = 45BCD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"DA A" is designed to correct the BCD addition problem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70406-6EBE-4E70-A9B5-4B2DD1CB36F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6T14:28:41Z</dcterms:created>
  <dc:creator>mos</dc:creator>
  <dc:description/>
  <dc:language>en-US</dc:language>
  <cp:lastModifiedBy>mos</cp:lastModifiedBy>
  <dcterms:modified xsi:type="dcterms:W3CDTF">2008-11-18T14:11:18Z</dcterms:modified>
  <cp:revision>80</cp:revision>
  <dc:subject/>
  <dc:title>The 8051 Microcontroller and Embedded System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