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D78-DC32-4ED2-BFD2-095AF6F0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5FA-4F44-4C3E-AC9C-A6DFFBA0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F0C3-E75F-4DCF-97B7-9E3B19E1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D456-0BEF-4BA8-8924-5A02D860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BB4D-52D9-4DAE-B320-9F138066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3922-AEF9-4FB5-AD98-0BE46BC1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F009-DF34-4B83-AA8D-CDA71EED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1F79-6B62-4070-BA4C-A676C5DB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B0BE-1832-4B04-8F20-0AC2AE11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1B68-8598-45BC-82CA-191984FA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2417-9866-4AF0-BFF9-A6AE2F89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3C2-B956-40A4-85A4-4025B109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9695-3D19-4366-95FA-0C56EEA5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0F0C-3570-4032-83FE-C8DDD4EA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C00C-9239-461E-8604-3BBCB986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4CD3-F08D-4A8B-B8FB-03C93BCE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2397-090D-43FC-8530-E4667AEB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AFE1-E164-449C-AC95-D5717475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5C5-8642-4792-B3F7-A78F601D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B40-BA36-4E0C-AB8A-0F9A9544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829F-8CE1-4A27-B5CC-EC150E01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AA1-DB0A-440D-B344-7DF114C5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1D8-4170-4C89-8440-81B62494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4C2-1FDE-4C81-8CA9-5D3263D3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9A3B-F719-4649-9DBF-6A34D57E2F80}" type="slidenum">
              <a:rPr b="1" lang="zh-CN" sz="2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821F-0DC3-4C9C-A6A7-6796E1ED2B01}" type="slidenum">
              <a:rPr b="1" lang="zh-CN" sz="2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宋体"/>
              </a:rPr>
              <a:t>The 8051 Microcontroller and Embedded System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宋体"/>
              </a:rPr>
              <a:t>CHAPTER 0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宋体"/>
              </a:rPr>
              <a:t>INTRODUCTION TO COMPUTING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2B71-B35D-40DA-A6CD-C2596432A6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SECTION 0.2: DIGITAL PRIM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3171960"/>
            <a:ext cx="7693200" cy="2104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126240" y="5805360"/>
            <a:ext cx="35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Figure 0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  <a:ea typeface="宋体"/>
              </a:rPr>
              <a:t>–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7   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Address Decod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A51C-BB81-4AF5-8797-D827E2A540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SECTION 0.2: DIGITAL PRIM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080" y="3132000"/>
            <a:ext cx="7693200" cy="2183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70240" y="5734080"/>
            <a:ext cx="28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Figure 0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  <a:ea typeface="宋体"/>
              </a:rPr>
              <a:t>–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8   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D Flip-Flop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1B8-8144-4DFC-AD40-5F81D81F3D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SECTION 0.3: INSIDE THE COMPUTER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宋体"/>
              </a:rPr>
              <a:t>Some important termin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95640" y="3284640"/>
            <a:ext cx="4752720" cy="195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7371-C0B0-4BC7-8962-9EB247187A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SECTION 0.3: INSIDE THE COMPUT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宋体"/>
              </a:rPr>
              <a:t>Internal organization of compu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7202520" cy="2931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290400" y="6308640"/>
            <a:ext cx="38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Figure 0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  <a:ea typeface="宋体"/>
              </a:rPr>
              <a:t>–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9   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Inside the Compu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6B2-4088-4980-B68F-1DCE0E5F63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SECTION 0.3: INSIDE THE COMPUT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宋体"/>
              </a:rPr>
              <a:t>More about the data b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03280" y="2997360"/>
            <a:ext cx="7201080" cy="296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58A-8B14-49C6-991F-5809D2FA67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SECTION 0.3: INSIDE THE COMPUT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宋体"/>
              </a:rPr>
              <a:t>More about the address b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03280" y="2997360"/>
            <a:ext cx="7201080" cy="2963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410920" y="6093000"/>
            <a:ext cx="56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Figure 0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  <a:ea typeface="宋体"/>
              </a:rPr>
              <a:t>–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10   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Internal Organization of Comput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C79-FB33-46C1-B1D1-42DCD64A23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SECTION 0.3: INSIDE THE COMPUT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宋体"/>
              </a:rPr>
              <a:t>Inside CP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5329440" cy="3557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104840" y="573408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Figure 0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  <a:ea typeface="宋体"/>
              </a:rPr>
              <a:t>–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11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Internal Block Diagram of a CP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37F-1ED5-4127-B53C-1E2DB38F7F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SECTION 0.3: INSIDE THE COMPUT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宋体"/>
              </a:rPr>
              <a:t>Internal working of compu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87280" y="3357720"/>
            <a:ext cx="7056720" cy="21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32F-84F8-42F3-8C7C-1F8F3206C3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Next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ea typeface="宋体"/>
              </a:rPr>
              <a:t>Lecture Problems Textbook Chapter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Answer as many questions as you can and submit via MeL before the end of the lecture. (HINT: Do the easy questions first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ea typeface="宋体"/>
              </a:rPr>
              <a:t>Proteus Exercise Textbook Chapter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Do as much of the Proteus exercise as you can and submit via MeL before the end of the lectu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BC79-E6EC-4643-9F40-EC9147DEB4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宋体"/>
              </a:rPr>
              <a:t>Before you can drive the Robotic Car, you must pass your HW Code Test then your PDL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01760" y="2362320"/>
            <a:ext cx="4965840" cy="37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5FB-56ED-4385-8222-3631252745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Convert any number from base 2, base 10, or base 16 to either of the other two bas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Add and subtract hex number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Add binary number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Represent any binary number in 2's complement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Represent an alphanumeric string in ASCII code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Describe logical operations AND, OR, NOT, XOR, NAND, NOR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Use logic gates to diagram simple circui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Explain the difference between a bit, a nibble, a byte, and a word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Give precise mathematical definitions of the terms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kilobyte, megabyte, gigabyte,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and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terabyte.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Explain the difference between RAM and ROM and describe their us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Describe the purpose of the major components of a computer syste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List the three types of buses found in computers and describe the purpose of each type of bu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Describe the role of the CPU in computer system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List the major components of CPU and describe the purpose of eac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F6F4-89E7-4EF7-9997-E2DE69B2E9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SECTION 0.2: DIGITAL PRIM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宋体"/>
              </a:rPr>
              <a:t>Binary log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508720" y="2492280"/>
            <a:ext cx="2119320" cy="4032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29360" y="5950080"/>
            <a:ext cx="31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  <a:ea typeface="宋体"/>
              </a:rPr>
              <a:t>Figure 0–2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Binary Signa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829-04EC-4830-9AC0-AB7E35EE72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SECTION 0.2: DIGITAL PRIM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宋体"/>
              </a:rPr>
              <a:t>Logic g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564000" y="2565360"/>
            <a:ext cx="1933560" cy="1592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419640" y="4292640"/>
            <a:ext cx="1903320" cy="2055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867280" y="2492280"/>
            <a:ext cx="1903680" cy="2098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867280" y="4581360"/>
            <a:ext cx="1965600" cy="208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310-64D0-4A05-88F3-902AD6376E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SECTION 0.2: DIGITAL PRIM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宋体"/>
              </a:rPr>
              <a:t>Logic design using g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58920" y="2997360"/>
            <a:ext cx="7416720" cy="265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999440" y="5950080"/>
            <a:ext cx="56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  <a:ea typeface="宋体"/>
              </a:rPr>
              <a:t>Figure 0–3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Two Implementations of a Half-Add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F62-09E9-4787-8A5C-E7F05A23BC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SECTION 0.2: DIGITAL PRIM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15880" y="2362320"/>
            <a:ext cx="6535800" cy="3724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192760" y="6237360"/>
            <a:ext cx="48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  <a:ea typeface="宋体"/>
              </a:rPr>
              <a:t>Figure 0–4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Block Diagram of a Half-Add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35BC-599C-4125-9B14-44409D3B4D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SECTION 0.2: DIGITAL PRIM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2940120"/>
            <a:ext cx="7693200" cy="2566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499480" y="5950080"/>
            <a:ext cx="52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  <a:ea typeface="宋体"/>
              </a:rPr>
              <a:t>Figure 0–5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Full-Adder Built from a Half-Add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DA67-503D-4C9F-9893-B6C7D5D707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SECTION 0.2: DIGITAL PRIM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16240" y="2362320"/>
            <a:ext cx="2935440" cy="3724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53680" y="6237360"/>
            <a:ext cx="49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Figure 0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  <a:ea typeface="宋体"/>
              </a:rPr>
              <a:t>–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6    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3-Bit Adder Using 3 Full-Add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E31-82EB-4363-ACB8-A314BC25C4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2:45:37Z</dcterms:created>
  <dc:creator>mos</dc:creator>
  <dc:description/>
  <dc:language>en-US</dc:language>
  <cp:lastModifiedBy>USER</cp:lastModifiedBy>
  <dcterms:modified xsi:type="dcterms:W3CDTF">2012-10-02T14:03:25Z</dcterms:modified>
  <cp:revision>53</cp:revision>
  <dc:subject/>
  <dc:title>Embedded System Design </dc:title>
</cp:coreProperties>
</file>