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0BB-281A-4A74-9F52-EDC0B34C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360-2D7D-4FFA-A170-6E92D5A2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1C0-86EE-416F-96F8-82E3B91D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560-5D22-47D0-AD02-28660A91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044E-5CD0-41FB-9E1D-FBDAC51A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B58D-1B3B-417B-98B3-D032C6A4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25D-128A-44B0-9DB0-9713936D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7EF-5082-45CD-A9D4-FA91450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7FC3-02CA-4E2A-81FD-48F0682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83A9-0213-4A9A-A729-F38FD9B5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B6BC-EF76-4923-8B4F-92C7183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5B-151B-4C74-96FD-F2CAC74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9DA6-63A3-4893-9A79-3E7FA0B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A7D-0833-427B-997A-460D17C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98D4-C73C-4C70-BAC0-665EDF1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40C-69D5-4E26-9841-2C10159E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0CA-2836-407A-B516-89285AE3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F6B-1359-4679-B4B7-F6BB947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00D-6DCB-4973-A204-8E9BA87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06E-0C31-4DFB-9684-BA8CDC7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FDA-F187-45D6-9AB5-9E0D78AB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F3B-A7EA-4D7A-A822-24064CCE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464-AF84-4A4E-994C-D9832FB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C82-8D4A-40B8-B30F-DD40E7F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A72-FFBC-4C9B-A7CC-5FB6467776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D7B1-B7B3-48C8-ADDE-4C9F689F96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/O PORT PROGRAMM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2F3-45D3-43B3-8BB1-595D45EAD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1 as inpu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port 1 has been configured as an output port, to make it an input port again, it must programmed as such by writing 1 to all its bi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906-580C-4816-8558-5854E1B8CF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1 as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the following code, port 1 is configured first as an input port by writing 1 s to it, then data is received from that port and saved in R7, R6, and R5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832720" cy="30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593-46FB-4ED4-92BA-477909FA6B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r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rt 2 occupies a total of 8 pins (pins 21 through 28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can be used as input or outpu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r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es not need any pull-up resistors since it already has pull-up resistors intern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on reset, port 2 is configured as an input por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22C-D4FC-4A01-8D7C-6C8EE5843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2 as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make port 2 an input, it must programmed as such by writing 1 to all its bit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the following code, port 2 is configured first as an input port by writing is to i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3933720"/>
            <a:ext cx="767556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B92-DF7E-406B-9024-DFF4068925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al role of port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8031-based systems, port 2 must be used along with P0 to provide the 16-bit address for external memo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rt 2 is also designated as A8 - A15, indicating its dual func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ce an 8051/31 is capable of accessing 64K bytes of external memory, it needs a path for the 16 bits of the addr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0 provides the lower 8 bits via A0 - A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 provides bits A8 - A 15 of the addr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the 8051 /31 is connected to external memory, P2 is used for the upper 8 bits of the 16-bit address, and it cannot be used for I/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E1A-9A70-4896-99CD-192E9A0A1A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 3 can be used as input or outpu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3 does not need any pull-up resisto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 3 is configured as an input port upon rese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 3 has the additional function of providing some extremely important signals such as interrupts, serial I/O, timer/counter and read/write control for external memo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5F2-C22B-4645-81FF-D98014220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038480" cy="4187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34520" y="566100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1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t 3 Alternate Fun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71E-57EA-4F22-9AEF-950381842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fferent ways of accessing the entire 8 b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3280" y="3573360"/>
            <a:ext cx="3676680" cy="20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829-9C35-4D32-8CA0-36E96CA819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fferent ways of accessing the entire 8 bi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924360" cy="1704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6637320" cy="1704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42920" y="4076640"/>
            <a:ext cx="7705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18D-BCC5-4401-9B4D-87AE16AD76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s status upon re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6643800" cy="280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58520" y="609300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et Value of Some 8051 Po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89B-226D-402F-AAE5-DFC5BB333C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 the 4 ports of the 805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 the dual role of port 0 in providing both data and address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de Assembly language to use the ports for input or outp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the dual role of port 0 and por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de 8051 instructions for I/O hand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de I/O bit-manipulation programs for the 805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611-4A41-4ACD-AFC3-E25481484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2: I/O BIT MANIPULATION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powerful feature of 80511/0 ports is their capability to access individual bits of the port without altering the rest of the bits in that por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the four 8051 ports, we can access either the entire 8 bits or any single bit without altering the res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"SETB X. Y" where X is the port number 0, 1, 2, or 3, and Y is the desired bit number from 0 to 7 for data bits DO to D7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"SETB P1.5" sets high bit 5 of port 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4BF-59FC-4EA0-AB0F-17FC3952AE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2: I/O BIT MANIPULATION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ollowing code toggles bit P1.2 continuous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7694640" cy="27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B61-BB97-49F8-97BA-F2F0576DC6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2: I/O BIT MANIPULATION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/O ports and bit-address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5249880" cy="374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36800" y="5084640"/>
            <a:ext cx="270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3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ngle-Bit Addressabili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 Po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25B-43F6-4059-9571-E77B185990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2: I/O BIT MANIPULATION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/O ports and bit-address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7343640" cy="1887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18520" y="558972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ngle-Bit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B47-6783-4DBD-9D34-9C178629ED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2: I/O BIT MANIPULATION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ecking an input bi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920000" cy="165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70880" y="558972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5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s For Reading an Input P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6AD-B22A-4958-ACA6-51C14EB0D0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ading a single bit into the carry fla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480000" cy="41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DC8-6587-4FFC-A0A3-34A6FDA88E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ading input pins vs. port lat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me instructions read the status of port pins while others read the status of an internal port latch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reading ports there are two possibili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Read the status of the input p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Read the internal latch of the output por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A55-CD7C-42CE-9053-0A040D9C07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tructions for reading input 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make any bit of any 8051 port an input port, we must write 1 (logic high) to that b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fter we configure the port bits as input, we can use only certain instructions in order to get the external data present at the pins into the CP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CEF-7344-4EE3-B2D2-2645D12B10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ading latch for output 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753080" cy="3340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19280" y="6308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4–6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s Reading a Latch (Read-Modify-Writ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4D4-526F-4A62-8232-2A2D477B04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ad-modify-write fe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ports in the 8051 can be accessed by the read-modify-write techniqu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 reading the po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 modifying its valu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3) writing to the por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6480" y="4869000"/>
            <a:ext cx="8237520" cy="113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E15-C525-4E97-84C6-D0ED2C8E93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/O port pins and their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3048120" cy="400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10880" y="5950080"/>
            <a:ext cx="34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4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Pin Diag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E5A-DC56-4A1D-A460-3179621E9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Textbook Chapter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273-0A39-4A14-B4AA-3E49E27B19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the ports up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are configured as inputs, ready to be used as input po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the first 0 is written to a port, it becomes an outpu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reconfigure it as an input, a 1 must be sent to the 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use any of these ports as an input port, it must be programmed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70A-8498-470E-ADA0-24556E249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5545440" cy="39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35600" y="595008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4–2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t 0 with Pull-Up Resist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FE6-8010-4066-88E5-1D42F3DD91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t can be used for input or 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use the pins of port 0 as both input and output each pin must be connected externally to a 10 Kohm pull-up resis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s is due to the fact that P0 is an open drain, unlike P 1, P2, and P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D9F-F7BB-4AD1-BBC9-D9BD75F4C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 0 as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ith resistors connected to por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order to make it an input, the port must be programmed by writing 1 to all the bi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7602480" cy="23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D9B-BB51-4C98-8FA1-4B1EA2E54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al role of port 0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s also designated as AD0 - AD7, allowing it to be used for both address and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connecting an 8051/31 to an external memory, port 0 provides both address and da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8051 multiplexes address and data through port 0 to save pins. We discuss that in Chapter 1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749-481C-4460-A543-C2A48DD68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4.1: 8051 I/O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t can be used as input or outpu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s port does not need any pull-up resistors since it already has pull-up resistors intern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on reset, port I is configured as an input por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5BD-6160-4454-9730-2C9F0D709D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13:43Z</dcterms:created>
  <dc:creator>mos</dc:creator>
  <dc:description/>
  <dc:language>en-US</dc:language>
  <cp:lastModifiedBy>mos</cp:lastModifiedBy>
  <dcterms:modified xsi:type="dcterms:W3CDTF">2008-11-06T13:16:29Z</dcterms:modified>
  <cp:revision>41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