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379-1452-4A71-BEB8-17A147E5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C59-3799-42EA-80F8-AC0398FD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ABF-A736-4572-BA89-98DC7AB7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B0A-6EC0-4A36-973C-BD84DB55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D8AB-1EF6-4C4F-BDA2-B341809A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4F26-480D-418E-B524-3F5E3212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C25E-4FE8-43C6-A0C5-EF060943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97AA-A445-420E-A811-B908C292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8CBE-F86D-4BB4-BFA1-80EF3CCD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A79E-AE65-4BB9-8470-D1AC590E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8C65-0C12-4F8E-970D-02E77D6A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A2E-757E-4D1B-918C-F20B036C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3CFD-8232-49FE-824B-A4C88588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F6B5-0B92-4360-BBB0-4F2BCD2E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229F-F808-42F7-84E2-14E70317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F899-F859-4EFB-8B37-001676D4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CB0C-639B-4BCA-B242-D9F9D0DC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C93-0565-4AB2-B484-71744B63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978-E8A9-471B-99EF-E6B54613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E55-B036-4E05-8B26-F59371E9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5DA-1E0B-4FC7-8F02-3429E220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3FC-634A-4256-92AD-2159605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9DC-2A5A-49F8-9C3A-E656E6D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EDA-0851-4638-BA23-10D7FCD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12C9-8572-4CF6-8C20-F7CE33E5E8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301A-D329-4B31-AD1C-5072BB1803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8051 Microcontroller and Embedded System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8051 SERIAL PORT PROGRAMMING IN ASSEMBL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CA8C-1512-45C5-A0A1-A2B5D65B31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3298680"/>
            <a:ext cx="7693200" cy="184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28360" y="5516640"/>
            <a:ext cx="427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0–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Framing ASCII “A” (41H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634-32BE-47DB-9AB0-DF1380237F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modern PCs one stop bit is stand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en transferring a text file of ASCII characters using 1 stop bit there is total of 10 bits for each charac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8 bits for the ASCII code (1 parity bit), 1 bit each for the start and stop b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 each 8-bit character there are an extra 2 bits, which gives 20% overh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F37-8F86-447A-8CF0-C6120122C3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ata transfer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te of data transfer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p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bits per secon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dely used terminology for bps is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aud 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aud and bps rates are not necessarily equ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aud rate is defined as the number of signal changes per sec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642-B83B-47D6-9ECD-1EBE408FAC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S232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st widely used serial I/O interfacing stand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put and output voltage levels are not TTL compat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 bit is represented by -3 to -25 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 bit is +3 to +25 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3 to +3 is undefin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 connect RS232 to a microcontroller system must use voltage converters such as MAX232 to convert the TTL logic levels to the RS232 voltage levels, and vice ver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232 IC chips are commonly referred to as line driver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7A9-B066-47F2-BE1F-9B3AC1DA8E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2232000" cy="424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22160" y="623736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10–1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S232 Pins (DB-2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64000" y="2492280"/>
            <a:ext cx="5351400" cy="211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14880" y="4581360"/>
            <a:ext cx="42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0–4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S232 Connector DB-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BAE-28CB-486A-BE8D-B5596FFE0B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4124520" cy="3724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73440" y="623736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10–2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BM PC DB-9 Signa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35640" y="2852640"/>
            <a:ext cx="3240000" cy="185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39720" y="494172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0–5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B-9 9-Pin Connec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001-58C1-4BDE-87D3-353277E340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ta communication classif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TE (data terminal equipment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CE (data communication equipme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TE - terminals and computers that send and receive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CE - communication equipment responsible for transferring the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mplest connection between a PC and microcontroller requires a minimum of three pins, TxD, RxD, and grou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82E-4792-499F-84D6-4BE0CC3681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0000" y="2362320"/>
            <a:ext cx="6487920" cy="3724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4320" y="6165720"/>
            <a:ext cx="42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0–6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ull Modem Conne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C8D-3B6A-47D3-9893-1ACF562D95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amining RS232 hand­shaking sig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y of the pins of the RS-232 connector are used for handshaking sig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y are not supported by the 8051 UART ch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CB2-44F3-45D7-9D18-69D4DD5BEF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C/compatible COM po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C/compatible computers (Pentium) microprocessors normally have two COM po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oth ports have RS232-type connec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 ports are designated as COM 1 and COM 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replaced by USB por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 connect the 8051 serial port to the COM 2 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4D2-8BA5-4DEE-8430-A60D3CFC4A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ast and compare serial versus parallel commun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advantages of serial communication over parall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serial communication protoc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ast synchronous versus asynchronous commun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ast half-versus full-duplex transmi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process of data fram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cribe data transfer rate and bps r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the RS232 stand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use of the MAX232 and MAX233 chi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6B5-A59C-4933-B2C9-6A4976A3D3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2: 8051 CONNECTION TO RS23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xD and TxD pins in the 805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51 has two pins used for transferring and receiving data seri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xD and RxD are part of the port 3 group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in 11 (P3.1) is assigned to Tx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in 10 (P3.0) is designated as Rx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se pins are TTL compat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quire a line driver to make them RS232 compat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river is the MAX232 chi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949-46ED-4A15-BB51-0798F3D309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2: 8051 CONNECTION TO RS23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X23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verts from RS232 voltage levels to TTL voltage lev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ses a +5 V power sou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232 has two sets of line drivers for transferring and receiving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ine drivers used for TxD are called T1 and T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ine drivers for RxD are designated as R1 and R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1 and R1 are used together for TxD and RxD of the 805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cond set is left unus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CCF-51D9-49B2-A083-F795635E7A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2: 8051 CONNECTION TO RS23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44640" y="2362320"/>
            <a:ext cx="7478640" cy="3724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29040" y="6021360"/>
            <a:ext cx="64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0–7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a) Inside MAX23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b) its Connection to the 8051 (Null Mode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66C-834C-40CD-9636-BC4B7DB127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2: 8051 CONNECTION TO RS23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X2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X233 performs the same job as the MAX23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iminates the need for capaci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ch more expensive than the MAX23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89D-7635-4B44-A7CF-9A16844D0D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2: 8051 CONNECTION TO RS23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63640" y="2362320"/>
            <a:ext cx="7642080" cy="3724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83960" y="6021360"/>
            <a:ext cx="64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0–8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a) Inside MAX23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b) Its Connection to the 8051 (Null Mode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B55-9AC3-44CD-9076-F35BA792B9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aud rate in the 80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rial communications of the 8051 with the COM port of the P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st make sure that the baud rate of the 8051 system matches the baud rate of the PC's COM 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 use Windows HyperTerminal pro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653-5222-4CF2-8054-E3977ADF51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031840" cy="3724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73440" y="630864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10–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PC Baud Ra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545-2ABA-4BF1-907F-520EE43D29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aud rate in the 80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ud rate in the 8051 is programmab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one with the help of Timer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lationship between the crystal frequency and the baud rate in the 805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8051 divides the crystal frequency by 12 to get the machine cycle frequenc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XTAL = 11.0592 MHz, the machine cycle frequency is 921.6 kH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8051's UART divides the machine cycle frequency of 921.6 kHz by 32 once more before it is used by Timer 1 to set the baud ra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921.6 kHz divided by 32 gives 28,800 H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imer 1 must be programmed in mode 2, that is 8-bit, auto-relo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787-4EF4-4BE7-9FCF-560AC0706B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7693200" cy="2216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19960" y="5877000"/>
            <a:ext cx="70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10–4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r 1 TH1 Register Values for Various Baud Ra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6A8-43BA-4246-8B8B-0C8654B901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xample 10-1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th XTAL = 11.0592 MHz, find the TH1 value needed to have the following baud rates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(a) 9600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(b) 2400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(c) 1200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chine cycle frequ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= 11.0592 MHz / 12 = 921.6 k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mer 1 frequency provided by 8051 U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= 921.6 kHz / 32 = 28,800 Hz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a) 28,800 / 3 = 9600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here -3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= FD (hex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b) 28,800 / 12 = 2400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here -1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= F4 (hex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c) 28,800 / 24 = 1200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here -2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= E8 (hex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088-31F1-48DC-ACF3-12E09C4631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2992320"/>
            <a:ext cx="7693200" cy="2462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38880" y="5805360"/>
            <a:ext cx="53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0–1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ial versus Parallel Data Transf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F34-FABA-4E8D-85D6-C0B98C294B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655308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971640" y="3860640"/>
          <a:ext cx="1224000" cy="63828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0592 MHz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TAL oscilla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FA1-9207-452E-BC5A-F0093F12FF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BUF (serial buffer) regis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 byte of data to be transferred via the TxD line must be placed in the SBUF regis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BUF holds the byte of data when it is received by the RxD li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an be accessed like any other regis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OV SBUF,#'D'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;load SBUF=44H, ASCII for 'D‘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OV SBUF,A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;copy accumulator into SBU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OV A,SBUF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;copy SBUF into accumulato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en a byte is written, it is framed with the start and stop bits and transferred serially via the TxD p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en the bits are received serially via RxD, it is deframe by eliminating the stop and start bits, making a byte out of the data received, and then placing it in the SBU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A63-7045-41B0-8320-71FE82FF0F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N (serial control) regi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 program the start bit, stop bit, and data b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6048360" cy="30826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336320" y="649116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0–9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CON Serial Port Control Register (Bit-Addressab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22E-03F2-403D-9F94-4CEB348806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M0 and SM1 determine the mo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mode 1 is import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mode 1 is chosen, the data framing is 8 bits, 1 stop bit, and 1 start b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tible with the COM port of P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 1 allows the baud rate to be variable and is set by Timer 1 of the 805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each character a total of 10 bits are transferred, where the first bit is the start bit, followed by 8 bits of data, and finally 1 stop b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477-05A5-48A0-984F-D4CD87F63F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N (receive enable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N=1, allows 8051 to receive data on the Rx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8051 is to both transfer and receive data, REN must be set to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N=0, the receiver is disabl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TB SCON.4 and CLR SCON.4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0B4-5A85-49D4-B872-A3448C62685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 (transmit interrup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8051 finishes the transfer of the 8-bit character, it raises the TI flag to indicate that it is ready to transfer another by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 (receive interrup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the 8051 receives data serially via RxD, it places the byte in the SBUF regis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n raises the RI flag bit to indicate that a byte has been received and should be picked up before it is l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B09-0BF7-4FD7-B84B-F15ADE6B60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gram to transfer data seri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MOD register is loaded with the value 20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1 is loaded with value to set the baud r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CON register is loaded with the value 50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1 is set to 1 to start Timer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I is cleared by the "CLR TI" instru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mit character byte is written into the SBUF regis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I flag bit is monitored to see if the character has been transferred complete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 transfer the next character, go to Step 5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AB3-BA9F-48CB-8A8D-4BF82E1039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xample 10-2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rite a program to transfer letter "A" serially at 4800 baud, continuously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rror in line 3 – should be SCON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8137800" cy="258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560-5489-47B4-AD72-B8947E6520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2360" y="9799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xample 10-3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rite a program to transfer the message "YES" serially at 9600 baud, 8-bit data, 1 stop bit. Do this continuously.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rror in line 3 – should be SCON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913800" cy="411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6AE-8AE3-4D58-AC16-DA326B530F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ortance of the TI fla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eck the TI flag bit, we know whether can transfer another by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 flag bit is raised by the 805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 flag cleared by the program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riting a byte into SBUF before the TI flag bit is raised, may lead to loss of a portion of the byte being transferr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73C-A3E2-4E10-83E4-853F1F8C2C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ial communication uses single data line making it much cheap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ables two computers in different cities to communicate over the teleph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yte of data must be converted to serial bits using a parallel-in-serial-out shift register and transmitted over a single data l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ceiving end there must be a serial-in-parallel-out shift regis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transferred on the telephone line, it must be converted to audio tones b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de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short distance the signal can be transferred using wi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PC keyboards transfer data to the motherboar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DF0-7CEC-4F49-9112-A0F5D7AFC4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gram to receive data seri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MOD register is loaded with the value 20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1 is loaded with value set the baud r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CON register is loaded with the value 50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1 is set to 1 to start Timer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I is cleared with the "CLR RI" instru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I flag bit is monitored to see if an entire character has been received y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I=1 SBUF has the byte, its contents are moved into a safe pl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 receive the next character, go to Step 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FCB-6F50-4C36-B4B7-2C2E87694FC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27640" y="979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xample 10-4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Program the 8051 to receive bytes of data serially, and put them in P1. Set the baud rate at 4800, 8-bit data, and 1 stop bit.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rror in line 3 – should be SCON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7632720" cy="26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EDC-8386-44E8-80E5-23D522EA826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ortance of the RI flag b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t receives the start bit, next bit is the first bit of the charac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hen the last bit is received, a byte is formed and placed in SBU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hen stop bit is received, makes RI =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hen RI=1, received byte is in the SBUF register, copy SBUF contents to a safe pl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fter the SBUF contents are copied the RI flag bit must be cleared to 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F96-8EE5-4A3E-B460-31FE5645DCF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oubling the baud rate in the 80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wo ways to increase the baud ra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a higher-frequency crys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nge a bit in the PCON regis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6067440" cy="676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692360" y="4797360"/>
            <a:ext cx="6275160" cy="1633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21080" y="6491160"/>
            <a:ext cx="70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10–5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aud Rate Comparison for SMOD = 0 and SMOD =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B7C-FAB7-4DBC-B493-005246BB0DB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3: 8051 SERIAL PORT PROGRAMMING IN ASSEMB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rrupt-based data transf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is a waste of the microcontroller's time to poll the TI and RI fla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 avoid wasting time, use interrupts instead of po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548-2329-4E13-8861-F208026E19D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ecture Problems Textbook Chapter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swer as many questions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us Exercise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as much of the Proteus exercise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45D-BDD0-41F6-9EC8-AFBACF25F0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methods, asynchronous and synchrono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ynchronou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 transfers a block of data (characters) at a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synchronou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 transfers a single byte at a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special IC chips called UART (universal asynchronous receiver-transmitter) and USART (universal synchronous­asynchronous receiver-transmitt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051 chip has a built-in UAR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0FB-31CC-4EA7-B2AF-BF6464D8DE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2960" y="2362320"/>
            <a:ext cx="7542000" cy="3724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5600" y="6237360"/>
            <a:ext cx="59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10–2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ex, Half-, and Full-Duplex Transf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CE5-DE75-4415-B369-F36B822383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lf- and full-duplex transmi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the data can be transmitted and received, it is 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uple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imple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smissions the computer only sends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plex transmissions can be half or full duple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pends on whether or not the data transfer can be simultane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one way at a time, it i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half duple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an go both ways at the same time, it is full duple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ll duplex requires two wire conductors for the data lines (in addition to the signal groun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220-3E26-44AB-A6C9-29E3A7B346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synchronous serial communication and data fra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ta coming in 0s and 1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 make sense of the data sender and receiver agree on a set of r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w the data is pack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w many bits/charac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hen the data begins and en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875-DBD4-4FD4-856C-9C0CC6AA59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10.1: BASICS OF SERIAL COMMUNI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art and stop b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ynchronous method, each character is placed between start and stop b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fr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rt bit is always one b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op bit can be one or two b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rt bit is always a 0 (low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op bit(s) is 1 (hig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SB is sent out fir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D57-B5CD-476E-BA5B-3C6707C09E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4:56:55Z</dcterms:created>
  <dc:creator>mos</dc:creator>
  <dc:description/>
  <dc:language>en-US</dc:language>
  <cp:lastModifiedBy>mos</cp:lastModifiedBy>
  <dcterms:modified xsi:type="dcterms:W3CDTF">2009-01-09T13:04:48Z</dcterms:modified>
  <cp:revision>124</cp:revision>
  <dc:subject/>
  <dc:title>The 8051 Microcontroller and Embedde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