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DF5-F3D1-4B35-B165-5DE1C133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0B6-4BEC-4BB0-9173-BE18140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727-C286-4B8F-8610-56119E26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A91-D67B-4EB6-8DF8-16FB4666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95C3-584D-4B43-AF89-EBD37B36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DB6B-2377-4AD0-A2CB-2A5A739D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C029-CD08-4CDD-B1B6-52BAA54B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0D61-9678-4355-A2C0-6C04422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5CC-0AFA-4D20-93A8-E69B29E9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D16-0D73-461A-9DED-56B1ABA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5BBF-6AB5-4F04-8D64-EA151AB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743-7F6A-4FFD-81E0-31C6651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FB02-9053-4709-B937-BB1E37A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905-C5C1-4413-A8EC-9E33D8C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B12-2330-4DF1-9D34-BC9A838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535-C63B-46EC-AA57-42F76C75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DC38-4562-4E52-8F0F-A71F0B41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E9C-63BD-4A36-BB2D-A21A3E4E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B4F-66B9-41C4-8F63-6102DD15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C06-F5AC-4E0B-9FD6-5516ED8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BCA-1CD1-4B6E-95D1-ECE04AA3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2C9-F036-4EB3-B120-5BA0615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B7A-A0FB-46DD-A462-BBED6FA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CD4-E0BE-4F8C-9A77-0C526ED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19DB-5144-4DB4-BE74-AF8C246BCB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881-7450-48F7-8483-390DE6C350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051 INTERFACING TO EXTERNAL MEMO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207D-EBE4-4E0A-9385-90C7C67FC8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EPROM (electrically erasable programmable R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5280120" cy="2990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3800" y="6308640"/>
            <a:ext cx="50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4–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EEPROM and Flash C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6C8-DA39-4AE8-ABD0-716C8A1B00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ash memory EP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ash memory can be programmed while it is in its socket on the system board, it is widely used to upgrade the BIOS ROM of the PC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ash memory is semiconductor memory with access time in the range of 100 ns compared with disk access time in the range of tens of milliseconds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CC7-BCF8-41AC-9DF2-BCF3F735B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sk 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sk ROM refers to a kind of ROM in which the contents are programmed by the IC manufacturer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sk ROM is used when the needed volume is high (hundreds of thousands) and it is absolutely certain that the contents will not chang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679-A219-4626-ACF6-FD2C6F0B56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M (random access memo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M memory is calle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volati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y since cutting off the power to the IC results in the loss of dat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ECF-6E85-4F69-A9CD-05EA76A1A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RAM (static RAM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orage cells in sta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 memory a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de of flip-flop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therefore 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 require refres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order to kee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ir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is in contras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DRAM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59520" y="2421000"/>
            <a:ext cx="3984480" cy="4111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50520" y="58770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2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Kx8 SRAM Pi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891-E47D-4D53-9306-BBDD847AC5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31920" y="2362320"/>
            <a:ext cx="5104080" cy="37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7240" y="6237360"/>
            <a:ext cx="50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4–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Some SRAM and NV-RAM C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FF9-6179-4D36-A930-1586026F0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V-RAM (nonvolatile RA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w type of nonvolatile RAM called NV-RA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ke other RAMS, it allows the CPU to read and write to it, but when the power is turned off the contents are not lost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B5B-7AB3-4003-A903-F0F298F8B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ecksum byte 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ecksum will detect any corruption of the contents of RO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419-68A4-46A4-A0F9-A6B1BD192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AM (dynamic RA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s a capacitor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ore each b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quires consta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freshing due 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ak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961080" cy="333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41800" y="602136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6Kx1 D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488-59BD-409F-95B9-3C7E0CD132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860560"/>
            <a:ext cx="769320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277-9EFE-4C66-B3E3-1448069E8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rast and compare various types of semiconductor memories in terms of their capacity, organization, and access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the relationship between the number of memory locations on a chip, the number of data pins, and the chip capac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e ROM memory and describe its use in 8051-based system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rast and compare PROM, EPROM, UV EPROM, EEPROM, flash memory EPROM, and mask ROM memo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e RAM memory and describe its use in 8051-based syste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rast and compare SRAM, NV-RAM, checksum byte, and DRAM memo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st the steps a CPU follows in memory address deco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lain how to interface ROM with the 8031/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lain how to use both on-chip and off-chip memory with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de 8051 Assembly programs accessing the 64K-byte data memory sp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CDE-04CD-4CBE-B789-53031D4E4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ckaging issue in D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DRAM there is a problem of packing a large number of cells into a single chip with the normal number of pins assigned to address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B63-8479-426B-9E63-6EDD803D91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AM organ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629160" cy="30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EEC-D9C1-4A31-8A1D-62D4366377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2: MEMORY ADDRESS DECOD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mple logic gate address deco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922720" cy="3537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8520" y="6093000"/>
            <a:ext cx="41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gic Gate as Deco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A15-6B78-4628-A894-573AB88FEC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2: MEMORY ADDRESS DECOD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ing the 74LS138 3-8 deco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59640" y="2924280"/>
            <a:ext cx="1712880" cy="3458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5600" y="508464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4LS138 Decod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printed by permission of Texas Instrument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pyright Texas Instruments, 198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C95-B49F-43AE-920E-40E1BB1B85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2: MEMORY ADDRESS DECOD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7160" y="2362320"/>
            <a:ext cx="6573600" cy="3724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62520" y="623736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6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4LS138 as Deco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D34-FF4E-464B-88E5-DD56805FED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2: MEMORY ADDRESS DECOD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programmable logic as an address deco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advantage of these chips is that they can be programmed for any combination of address ranges, and so are much more versati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Ls and GALS have 10 or more inputs (in contrast to 6 in the 74138) means that they can accommodate more address inp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E5A-D7A2-45C3-98BA-DD94CDDE98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 p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nect the EA pi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Vcc to indicate th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ogram code 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red in the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'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-chip RO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indicate that the program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de is stored in external ROM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pin must be connect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GND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34476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54160" y="616572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7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Pin Diag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6E4-417D-4BAD-AB8D-CBD86AFDAD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602080" cy="3724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3600" y="501336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8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4LS373 D Latc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printed by permission of Texas Instrument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pyright Texas Instruments, 198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52-4520-4885-80B0-4A01965A31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0 and P2 role in providing addr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7067520" cy="2871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75240" y="623736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9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dress/Data Multiplex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1FC-365D-41F5-AB69-138DED6DC4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63600" y="2362320"/>
            <a:ext cx="6842160" cy="372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982880" y="6308640"/>
            <a:ext cx="66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0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, Address, and Control Buses for the 803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BFC-2C53-429B-AB2B-2D4DCC20FF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number of bits that a semiconductor memory chip can store is called chip capacit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t can be in units of Kbits (kilobits), Mbits (megabits), and so on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CEE-571D-465D-B8E2-2A627CC10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30400" y="2362320"/>
            <a:ext cx="7108560" cy="3724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911960" y="6237360"/>
            <a:ext cx="63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8031 Connection to External Program R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01F-D1EC-49EA-97EC-C23A04FA6C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791400" cy="2933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911240" y="609300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n-chip and Off-chip Program Code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640-2AC0-4D49-BD63-33C8FE8469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3: 8031/51 INTERFACING WITH EXTERNAL R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-chip and off-chip code 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such a system we still have EA = Vcc, meaning that upon reset the 8051 executes the on-chip program first; then, when it reaches the end of the on-chip ROM it switches to external ROM for the rest of the program cod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FB8-2A11-4150-8719-6AF34862AD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a memory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6553440" cy="3519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54520" y="6491160"/>
            <a:ext cx="59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Connection to External Data R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B4B-C59B-4DAE-823E-49226DC3B0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ernal ROM for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the ROM containing the program code, PSEN is used to fetch the cod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the ROM containing data, the RD signal is used to fetch the dat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8F7-48E1-4516-86F0-97A22667E9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VX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759640" cy="3316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64680" y="6021360"/>
            <a:ext cx="70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4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31 Connection to External Data ROM and External Program R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10A-FC7E-4C3C-BFEE-F5CBA60248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VX instruction for external RAM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6503760" cy="3470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95960" y="6308640"/>
            <a:ext cx="58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5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Connection to External Data 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9E6-FE88-41C4-9F05-02F6B23182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single external ROM for code an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6648480" cy="3409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053440" y="6491160"/>
            <a:ext cx="61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6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Single ROM for Both Program and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7C7-5FB0-444A-9E5E-59C3C3C296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031 system with ROM and 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616720" cy="3537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1960" y="623736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7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31 Connection to External Program ROM, Data RAM, and Data R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9C2-CDA9-4F90-AB83-D4C0411F34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facing to large external me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856120" cy="3338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3600" y="649116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8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51 Accessing 256Kx8 External NV-R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235-0746-41A5-ABBC-D076797703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y organ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y chips are organized into a number of locations within the 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ach location can hold 1 bit, 4 bits, 8 bits, or even 16 bits, depending on how it is designed internall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A3B-3070-4534-8B20-E4CFDD247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4: 8051 DATA MEMORY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CESSING 1 K-BYTE SRAM IN ASSEM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592776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62160" y="6237360"/>
            <a:ext cx="76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9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MR Register Bits for 1K-byte SRAM of DS89C4x0 Chi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51F-EB38-4998-8220-1D6EC92742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852-CA3E-4DCF-872B-6D1572B89E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peed of the memory c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commonly referred to 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ccess tim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ccess time of memory c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es from a few nanoseconds 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ndreds of nanoseconds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pending on the IC technolo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n the design an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rication proce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1849680" cy="3979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77160" y="6165720"/>
            <a:ext cx="22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ble 14–1  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owers of 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871-860F-4F50-B0E1-D549AAD718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M (read-only memo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M is a type of memory that does not lose its contents when the power is turned of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this reason, ROM is also calle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nonvolati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0B8-00A8-44D4-89DC-11E128E55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 (programmable ROM) and O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 is programmed by blowing the fus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f the information burned into PROM is wrong, that PROM must be discarded since its internal fuses are blown permanentl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7BC-EBA9-4B5D-A5DC-731E2D372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PROM (erasable programmable ROM) and UV-EP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3213000"/>
            <a:ext cx="6048360" cy="317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5240" y="64911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4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n Configurations for 27xx ROM Fami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C39-C1FB-46DD-B362-EB947C57D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4.1: SEMICONDUCTOR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95360" y="2362320"/>
            <a:ext cx="6577200" cy="3724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61080" y="6237360"/>
            <a:ext cx="42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4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me UV-EPROM C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C35-37B9-4B60-BF3E-5D23AD10F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5:04:24Z</dcterms:created>
  <dc:creator>mos</dc:creator>
  <dc:description/>
  <dc:language>en-US</dc:language>
  <cp:lastModifiedBy>mos</cp:lastModifiedBy>
  <dcterms:modified xsi:type="dcterms:W3CDTF">2009-01-26T04:32:08Z</dcterms:modified>
  <cp:revision>60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