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8FC3-9CF2-4DBB-BE8A-B5CBC39B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1BEA-A2EA-4B62-B795-14EC0B63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F9ED-1BE4-4480-9E6A-FA5D5632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D74F-3A1A-4B4E-B338-6166D3DD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FBC6-BCF7-4EA1-81F3-3810FD15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72D8-EC8A-45A6-8E98-2A72EDF2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C12A-5B5A-449B-B052-CAAC39AF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A926-800E-41E4-99EB-11D3CDEC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B921-5579-40EE-8016-1FAB8655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1FEE-2283-45E1-A763-B9A69585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E317-5446-4B9A-BC29-2139A45B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595-E791-4C18-BE9E-1A8D8958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6CAF-C325-401A-A817-B19738AF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9534-073E-42A0-8195-C794A66A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940A-3ADB-4A15-892E-E0DC11EF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87AC-99CA-4733-9240-F49FEB3F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7D34-40BF-447D-A6CD-E40F0A6B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7ABB-4731-4BBB-9AEB-87DDA4FB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264C-0073-4318-B317-8F5FAC19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6F27-4BFC-47DF-A94C-962979F7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E536-F84E-4D1B-96DD-AB13722E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779C-F58F-4D46-AEC3-E1CBD1F3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926-2B19-4726-8A91-70EBCF76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AB0-CB7E-4466-845A-21FC2BF4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7598-A7FA-4540-8696-2BB32AF49D2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D5E0-4007-4166-8630-FECC8664EF21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31532;1&#31456;%20%20%20&#39044;&#22791;&#30693;&#35782;(&#25968;&#21046;&#19982;&#30721;&#21046;).ppt#Slide 1" TargetMode="External"/><Relationship Id="rId2" Type="http://schemas.openxmlformats.org/officeDocument/2006/relationships/hyperlink" Target="file:///&#31532;1&#31456;%20%20%20&#39044;&#22791;&#30693;&#35782;(&#25968;&#21046;&#19982;&#30721;&#21046;).ppt#Slide 1" TargetMode="External"/><Relationship Id="rId3" Type="http://schemas.openxmlformats.org/officeDocument/2006/relationships/hyperlink" Target="file:///&#31532;1&#31456;%20%20%20&#39044;&#22791;&#30693;&#35782;(&#25968;&#21046;&#19982;&#30721;&#21046;).ppt#Slide 1" TargetMode="External"/><Relationship Id="rId4" Type="http://schemas.openxmlformats.org/officeDocument/2006/relationships/hyperlink" Target="file:///&#31532;1&#31456;%20%20%20&#39044;&#22791;&#30693;&#35782;(&#25968;&#21046;&#19982;&#30721;&#21046;).ppt#Slide 1" TargetMode="External"/><Relationship Id="rId5" Type="http://schemas.openxmlformats.org/officeDocument/2006/relationships/hyperlink" Target="file:///&#31532;1&#31456;%20%20%20&#39044;&#22791;&#30693;&#35782;(&#25968;&#21046;&#19982;&#30721;&#21046;).ppt#Slide 1" TargetMode="External"/><Relationship Id="rId6" Type="http://schemas.openxmlformats.org/officeDocument/2006/relationships/hyperlink" Target="file:///&#31532;1&#31456;%20%20%20&#39044;&#22791;&#30693;&#35782;(&#25968;&#21046;&#19982;&#30721;&#21046;).ppt#Slide 1" TargetMode="External"/><Relationship Id="rId7" Type="http://schemas.openxmlformats.org/officeDocument/2006/relationships/hyperlink" Target="file:///&#31532;2&#31456;%20%20%20&#21333;&#29255;&#26426;&#22522;&#30784;.ppt#Slide 1" TargetMode="External"/><Relationship Id="rId8" Type="http://schemas.openxmlformats.org/officeDocument/2006/relationships/hyperlink" Target="file:///&#31532;2&#31456;%20%20%20&#21333;&#29255;&#26426;&#22522;&#30784;.ppt#Slide 1" TargetMode="External"/><Relationship Id="rId9" Type="http://schemas.openxmlformats.org/officeDocument/2006/relationships/hyperlink" Target="file:///&#31532;2&#31456;%20%20%20&#21333;&#29255;&#26426;&#22522;&#30784;.ppt#Slide 1" TargetMode="External"/><Relationship Id="rId10" Type="http://schemas.openxmlformats.org/officeDocument/2006/relationships/hyperlink" Target="file:///&#31532;2&#31456;%20%20%20&#21333;&#29255;&#26426;&#22522;&#30784;.ppt#Slide 1" TargetMode="External"/><Relationship Id="rId11" Type="http://schemas.openxmlformats.org/officeDocument/2006/relationships/hyperlink" Target="file:///&#31532;2&#31456;%20%20%20&#21333;&#29255;&#26426;&#22522;&#30784;.ppt#Slide 1" TargetMode="External"/><Relationship Id="rId12" Type="http://schemas.openxmlformats.org/officeDocument/2006/relationships/hyperlink" Target="file:///&#31532;2&#31456;%20%20%20&#21333;&#29255;&#26426;&#22522;&#30784;.ppt#Slide 1" TargetMode="External"/><Relationship Id="rId13" Type="http://schemas.openxmlformats.org/officeDocument/2006/relationships/hyperlink" Target="file:///&#31532;2&#31456;%20%20%20&#21333;&#29255;&#26426;&#22522;&#30784;.ppt#Slide 1" TargetMode="External"/><Relationship Id="rId14" Type="http://schemas.openxmlformats.org/officeDocument/2006/relationships/hyperlink" Target="file:///&#31532;2&#31456;%20%20%20&#21333;&#29255;&#26426;&#22522;&#30784;.ppt#Slide 1" TargetMode="External"/><Relationship Id="rId15" Type="http://schemas.openxmlformats.org/officeDocument/2006/relationships/hyperlink" Target="file:///&#31532;2&#31456;%20%20%20&#21333;&#29255;&#26426;&#22522;&#30784;.ppt#Slide 1" TargetMode="External"/><Relationship Id="rId16" Type="http://schemas.openxmlformats.org/officeDocument/2006/relationships/hyperlink" Target="file:///&#31532;2&#31456;%20%20%20&#21333;&#29255;&#26426;&#22522;&#30784;.ppt#Slide 1" TargetMode="External"/><Relationship Id="rId17" Type="http://schemas.openxmlformats.org/officeDocument/2006/relationships/hyperlink" Target="file:///&#31532;2&#31456;%20%20%20&#21333;&#29255;&#26426;&#22522;&#30784;.ppt#Slide 1" TargetMode="External"/><Relationship Id="rId18" Type="http://schemas.openxmlformats.org/officeDocument/2006/relationships/hyperlink" Target="file:///&#31532;2&#31456;%20%20%20&#21333;&#29255;&#26426;&#22522;&#30784;.ppt#Slide 1" TargetMode="External"/><Relationship Id="rId19" Type="http://schemas.openxmlformats.org/officeDocument/2006/relationships/hyperlink" Target="file:///&#31532;3&#31456;%20%20%20&#25351;&#20196;&#31995;&#32479;&#21450;&#27719;&#32534;.ppt#Slide 1" TargetMode="External"/><Relationship Id="rId20" Type="http://schemas.openxmlformats.org/officeDocument/2006/relationships/hyperlink" Target="file:///&#31532;3&#31456;%20%20%20&#25351;&#20196;&#31995;&#32479;&#21450;&#27719;&#32534;.ppt#Slide 1" TargetMode="External"/><Relationship Id="rId21" Type="http://schemas.openxmlformats.org/officeDocument/2006/relationships/hyperlink" Target="file:///&#31532;3&#31456;%20%20%20&#25351;&#20196;&#31995;&#32479;&#21450;&#27719;&#32534;.ppt#Slide 1" TargetMode="External"/><Relationship Id="rId22" Type="http://schemas.openxmlformats.org/officeDocument/2006/relationships/hyperlink" Target="file:///&#31532;3&#31456;%20%20%20&#25351;&#20196;&#31995;&#32479;&#21450;&#27719;&#32534;.ppt#Slide 1" TargetMode="External"/><Relationship Id="rId23" Type="http://schemas.openxmlformats.org/officeDocument/2006/relationships/hyperlink" Target="file:///&#31532;3&#31456;%20%20%20&#25351;&#20196;&#31995;&#32479;&#21450;&#27719;&#32534;.ppt#Slide 1" TargetMode="External"/><Relationship Id="rId24" Type="http://schemas.openxmlformats.org/officeDocument/2006/relationships/hyperlink" Target="file:///&#31532;3&#31456;%20%20%20&#25351;&#20196;&#31995;&#32479;&#21450;&#27719;&#32534;.ppt#Slide 1" TargetMode="External"/><Relationship Id="rId25" Type="http://schemas.openxmlformats.org/officeDocument/2006/relationships/hyperlink" Target="file:///&#31532;4&#31456;%20%20%20&#21333;&#29255;&#26426;&#31995;&#32479;&#30340;&#25193;&#23637;.ppt#Slide 1" TargetMode="External"/><Relationship Id="rId26" Type="http://schemas.openxmlformats.org/officeDocument/2006/relationships/hyperlink" Target="file:///&#31532;4&#31456;%20%20%20&#21333;&#29255;&#26426;&#31995;&#32479;&#30340;&#25193;&#23637;.ppt#Slide 1" TargetMode="External"/><Relationship Id="rId27" Type="http://schemas.openxmlformats.org/officeDocument/2006/relationships/hyperlink" Target="file:///&#31532;4&#31456;%20%20%20&#21333;&#29255;&#26426;&#31995;&#32479;&#30340;&#25193;&#23637;.ppt#Slide 1" TargetMode="External"/><Relationship Id="rId28" Type="http://schemas.openxmlformats.org/officeDocument/2006/relationships/hyperlink" Target="file:///&#31532;4&#31456;%20%20%20&#21333;&#29255;&#26426;&#31995;&#32479;&#30340;&#25193;&#23637;.ppt#Slide 1" TargetMode="External"/><Relationship Id="rId29" Type="http://schemas.openxmlformats.org/officeDocument/2006/relationships/image" Target="../media/image1.gif"/><Relationship Id="rId3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华文新魏"/>
                <a:ea typeface="华文新魏"/>
              </a:rPr>
              <a:t>单片微型计算机</a:t>
            </a:r>
            <a:br>
              <a:rPr sz="7200"/>
            </a:br>
            <a:r>
              <a:rPr b="1" lang="zh-CN" sz="72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原理及应用 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方正舒体"/>
                <a:ea typeface="方正舒体"/>
              </a:rPr>
              <a:t>编著  张毅坤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52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高校计算机教材丛书</a:t>
            </a:r>
            <a:r>
              <a:rPr b="1" lang="zh-CN" sz="24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663300"/>
                </a:solidFill>
                <a:latin typeface="华文新魏"/>
                <a:ea typeface="华文新魏"/>
              </a:rPr>
              <a:t>西安电子科技大学出版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目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1"/>
              </a:rPr>
              <a:t>第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2"/>
              </a:rPr>
              <a:t>1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3"/>
              </a:rPr>
              <a:t>章  预备知识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4"/>
              </a:rPr>
              <a:t>(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5"/>
              </a:rPr>
              <a:t>数制与码制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6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7"/>
              </a:rPr>
              <a:t>第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8"/>
              </a:rPr>
              <a:t>2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9"/>
              </a:rPr>
              <a:t>章  单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10"/>
              </a:rPr>
              <a:t> 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11"/>
              </a:rPr>
              <a:t>片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12"/>
              </a:rPr>
              <a:t> 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13"/>
              </a:rPr>
              <a:t>机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14"/>
              </a:rPr>
              <a:t> 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15"/>
              </a:rPr>
              <a:t>基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16"/>
              </a:rPr>
              <a:t> 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17"/>
              </a:rPr>
              <a:t>础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18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19"/>
              </a:rPr>
              <a:t>第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20"/>
              </a:rPr>
              <a:t>3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21"/>
              </a:rPr>
              <a:t>章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22"/>
              </a:rPr>
              <a:t>  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23"/>
              </a:rPr>
              <a:t>指令系统及汇编语言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24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25"/>
              </a:rPr>
              <a:t>第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26"/>
              </a:rPr>
              <a:t>4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27"/>
              </a:rPr>
              <a:t>章  单片机系统的扩展</a:t>
            </a:r>
            <a:r>
              <a:rPr b="0" lang="zh-CN" sz="2800" spc="-1" strike="noStrike" u="sng">
                <a:solidFill>
                  <a:srgbClr val="009900"/>
                </a:solidFill>
                <a:uFillTx/>
                <a:latin typeface="Times New Roman"/>
                <a:hlinkClick r:id="rId28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章  输入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输出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断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时与串行通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章  接口芯片与接口技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章  单片机应用系统设计与开发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章  几种典型的单片机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0004" descr=""/>
          <p:cNvPicPr/>
          <p:nvPr/>
        </p:nvPicPr>
        <p:blipFill>
          <a:blip r:embed="rId29"/>
          <a:stretch/>
        </p:blipFill>
        <p:spPr>
          <a:xfrm>
            <a:off x="7467480" y="6019920"/>
            <a:ext cx="914400" cy="365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143000" y="762120"/>
            <a:ext cx="7162920" cy="5486400"/>
            <a:chOff x="1143000" y="762120"/>
            <a:chExt cx="7162920" cy="5486400"/>
          </a:xfrm>
        </p:grpSpPr>
        <p:sp>
          <p:nvSpPr>
            <p:cNvPr id="111" name=""/>
            <p:cNvSpPr/>
            <p:nvPr/>
          </p:nvSpPr>
          <p:spPr>
            <a:xfrm>
              <a:off x="1143000" y="2514960"/>
              <a:ext cx="7162920" cy="37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制   作：西安电子科技大学出版社   李林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联系人：马武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电   话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29-822878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传   真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29-823274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主   页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http://www.xduph.co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E-mail:  xdupkj@163.co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0920" y="762120"/>
              <a:ext cx="4647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3300"/>
                  </a:solidFill>
                  <a:latin typeface="Tahoma"/>
                  <a:ea typeface="华文彩云"/>
                </a:rPr>
                <a:t>谢谢使用！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00:18:41Z</dcterms:created>
  <dc:creator>李林娜</dc:creator>
  <dc:description/>
  <dc:language>en-US</dc:language>
  <cp:lastModifiedBy>muz</cp:lastModifiedBy>
  <dcterms:modified xsi:type="dcterms:W3CDTF">2003-01-15T08:32:32Z</dcterms:modified>
  <cp:revision>4</cp:revision>
  <dc:subject/>
  <dc:title>单片微型计算机     原理及应用 </dc:title>
</cp:coreProperties>
</file>