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54F-29F8-4009-8381-46242E16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96D-7CE1-4C99-9677-5A42DE27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3C6-2ACC-4B9C-8BF2-5244520D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D07-CAEF-43E1-89AA-F18B9D25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56B-1E1C-4004-BDC2-8502FE4F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226-66D3-4F2B-BBC3-28BC681B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DF2-25BA-4F86-B492-A707D65B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659-2F0C-4110-A81B-4A5C2AEF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4D9-D2B4-408F-BE22-F22AD3CF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637-6970-4326-81CD-01BEC8C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A0C-8C4B-4614-AB6E-7BA8DC1B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470-EB1E-4630-B262-7AD9B57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CDD2-4B18-43C3-B753-DDE5D2DE69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IF-396" descr=""/>
          <p:cNvPicPr/>
          <p:nvPr/>
        </p:nvPicPr>
        <p:blipFill>
          <a:blip r:embed="rId2"/>
          <a:stretch/>
        </p:blipFill>
        <p:spPr>
          <a:xfrm flipH="1" rot="10800000">
            <a:off x="0" y="367920"/>
            <a:ext cx="5486400" cy="76320"/>
          </a:xfrm>
          <a:prstGeom prst="rect">
            <a:avLst/>
          </a:prstGeom>
          <a:ln w="0">
            <a:noFill/>
          </a:ln>
        </p:spPr>
      </p:pic>
      <p:pic>
        <p:nvPicPr>
          <p:cNvPr id="6" name="GIF-361" descr=""/>
          <p:cNvPicPr/>
          <p:nvPr/>
        </p:nvPicPr>
        <p:blipFill>
          <a:blip r:embed="rId3"/>
          <a:stretch/>
        </p:blipFill>
        <p:spPr>
          <a:xfrm>
            <a:off x="0" y="50760"/>
            <a:ext cx="380880" cy="353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833480" y="3024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章  概    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CJ3396" descr=""/>
          <p:cNvPicPr/>
          <p:nvPr/>
        </p:nvPicPr>
        <p:blipFill>
          <a:blip r:embed="rId4"/>
          <a:stretch/>
        </p:blipFill>
        <p:spPr>
          <a:xfrm>
            <a:off x="8799480" y="0"/>
            <a:ext cx="344520" cy="682560"/>
          </a:xfrm>
          <a:prstGeom prst="rect">
            <a:avLst/>
          </a:prstGeom>
          <a:ln w="0">
            <a:noFill/>
          </a:ln>
        </p:spPr>
      </p:pic>
      <p:pic>
        <p:nvPicPr>
          <p:cNvPr id="9" name="BJ2006" descr=""/>
          <p:cNvPicPr/>
          <p:nvPr/>
        </p:nvPicPr>
        <p:blipFill>
          <a:blip r:embed="rId5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3553;&#38754;&#21450;&#30446;&#24405;.ppt" TargetMode="External"/><Relationship Id="rId2" Type="http://schemas.openxmlformats.org/officeDocument/2006/relationships/image" Target="../media/image5.gif"/><Relationship Id="rId3" Type="http://schemas.openxmlformats.org/officeDocument/2006/relationships/slide" Target="slide2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35040" y="1143000"/>
            <a:ext cx="24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章  概    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IF0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58240" y="6286680"/>
            <a:ext cx="1085760" cy="571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6520" y="2362320"/>
            <a:ext cx="249408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6600"/>
                </a:solidFill>
                <a:uFillTx/>
                <a:latin typeface="Times New Roman"/>
                <a:hlinkClick r:id="rId3" action="ppaction://hlinksldjump"/>
              </a:rPr>
              <a:t>1.1   单片机的基本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6600"/>
                </a:solidFill>
                <a:uFillTx/>
                <a:latin typeface="Times New Roman"/>
                <a:hlinkClick r:id="rId4" action="ppaction://hlinksldjump"/>
              </a:rPr>
              <a:t>1.2   单片机的发展概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6600"/>
                </a:solidFill>
                <a:uFillTx/>
                <a:latin typeface="Times New Roman"/>
                <a:hlinkClick r:id="rId5" action="ppaction://hlinksldjump"/>
              </a:rPr>
              <a:t>1.3   单片机的特点及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6600"/>
                </a:solidFill>
                <a:uFillTx/>
                <a:latin typeface="Times New Roman"/>
                <a:hlinkClick r:id="rId6" action="ppaction://hlinksldjump"/>
              </a:rPr>
              <a:t>1.4   常用单片机系列介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609480"/>
            <a:ext cx="8686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随着集成电路工艺水平的提高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期间集成度提高到几万只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片，因而一些高性能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相继问世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摩托罗拉公司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68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，齐洛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Zilo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7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μPD78X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。这类单片机的寻址能力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片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容量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~8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片内除带有并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外，还有串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，甚至某些还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功能。因此，把这类单片机称为高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609480"/>
            <a:ext cx="8763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高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的基础上，单片机功能进一步得到提高，近年来推出了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。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X25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PI-45283C15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ilo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per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torol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68H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，它们不但进一步扩大了片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容量，同时还增加了通信功能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输功能以及高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等。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以来，各种高性能、大存储容量、多功能的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不断涌现，它们代表了单片机的发展方向，在单片机应用领域发挥着越来越大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由于功能强，被广泛用于工业控制、智能接口、仪器仪表等各个领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380880"/>
            <a:ext cx="8991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单片机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以后，集成电路的集成度可达十几万只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片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逐渐问世。这一阶段的代表产品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推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又推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C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美国国家半导体公司推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PC160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推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83X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把单片机的功能又推向了一个新的阶段。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的集成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只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片，片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KB 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并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全双工串行口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级中断处理系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还具有多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，如高速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HSIO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脉冲宽度调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PW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、特殊用途的监视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Watchdo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可用于高速复杂的控制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609480"/>
            <a:ext cx="8686800" cy="36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单片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近年来，各个计算机生产厂家已进入更高性能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研制、生产阶段。由于控制领域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需求并不十分迫切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的应用并不很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需要提及的是，单片机的发展虽然按先后顺序经历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阶段，但从实际使用情况看，并没有出现推陈出新、以新代旧的局面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仍各有应用领域，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在一些简单家用电器、高档玩具中仍有应用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在中、小规模应用场合仍占主流地位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在比较复杂的控制系统中才有应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78280" y="838080"/>
            <a:ext cx="31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片机的特点及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2080" y="1676520"/>
            <a:ext cx="24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3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片机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2362320"/>
            <a:ext cx="87631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的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严格区分的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程序存储器，只存放程序、固定常数及数据表格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为数据存储器，用作工作区及存放用户数据。这样的结构主要是考虑到单片机用于控制系统中，有较大的程序存储器空间，把开发成功的程序固化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而把少量的随机数据存放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这样，小容量的数据存储器能以高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式集成在单片机内，以加速单片机的执行速度。但单片机内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作为数据存储器用，而不是当作高速缓冲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ach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679320"/>
            <a:ext cx="876312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面向控制的指令系统。为满足控制的需要，单片机有更强的逻辑控制能力，特别是具有很强的位处理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通常是多功能的。由于单片机芯片上引脚数目有限，为了解决实际引脚数和需要的信号线的矛盾，采用了引脚功能复用的方法。引脚处于何种功能，可由指令来设置或由机器状态来区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的外部扩展能力强。在内部的各种功能部分不能满足应用需求时，均可在外部进行扩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扩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，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，中断系统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与许多通用的微机接口芯片兼容，给应用系统设计带来极大的方便和灵活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8040" y="685800"/>
            <a:ext cx="24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3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片机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519200"/>
            <a:ext cx="8686800" cy="27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体积小，成本低，运用灵活，易于产品化，它能方便地组成各种智能化的控制设备和仪器，做到机电一体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面向控制，能针对性地解决从简单到复杂的各类控制任务，因而能获得最佳的性能价格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抗干扰能力强，适用温度范围宽，在各种恶劣的环境下都能可靠地工作，这是其它类型计算机无法比拟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方便地实现多机和分布式控制，使整个控制系统的效率和可靠性大为提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457200"/>
            <a:ext cx="8686800" cy="40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的应用范围十分广泛，主要的应用领域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业控制。单片机可以构成各种工业控制系统、数据采集系统等。如数控机床、自动生产线控制、电机控制、温度控制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仪器仪表。如智能仪器、医疗器械、数字示波器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外部设备与智能接口。如图形终端机、传真机、复印机、打印机、绘图仪、磁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磁带机、智能终端机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商用产品。如自动售货机、电子收款机、电子秤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家用电器。如微波炉、电视机、空调、洗衣机、录像机、音响设备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42480" y="838080"/>
            <a:ext cx="31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4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单片机系列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0512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4.1  M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产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2735280"/>
            <a:ext cx="89913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8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阶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971~197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单片机发展的初级阶段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7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首先设计出集成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晶体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片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微处理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l 400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并配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移位寄存器，构成了第一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处理器。它的推出拉开了单片机研制的序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8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阶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976~19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低性能单片机阶段。这一阶段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推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4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为代表产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914400"/>
            <a:ext cx="8534160" cy="29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阶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980~198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高性能单片机阶段。这一阶段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推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为代表产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阶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98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至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阶段。这一阶段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推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为代表产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66920" y="914400"/>
            <a:ext cx="29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片机的基本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23680" y="60958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机组成结构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g00000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14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g0000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168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159720" y="762120"/>
            <a:ext cx="32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1  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单片机系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83080" y="523800"/>
            <a:ext cx="45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4.2  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单片机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990720"/>
            <a:ext cx="8839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构来说，通用微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有一定数量的通用或专用寄存器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单片机则在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开辟了一个工作寄存器区。该区共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，每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寄存器，共计可提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工作寄存器，相当于通用微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通用寄存器。除此之外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单片机还有颇具特色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要理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单片机的工作，就必须对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工作有清楚的了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仅具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引脚的单片机系统的功能有很大的扩展。由于这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作用，每个通道在程序控制下，都可有第二功能，从而使得有限的引脚能衍生出更多的功能。而且，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完成对定时器、串行口、中断逻辑的控制，这就使得单片机可以把定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、串行口、中断逻辑等集成在一个芯片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685800"/>
            <a:ext cx="8763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单片机在存储器结构上与通用微机也有不同之处，通用微机中程序存储器和数据存储器是一个地址空间，而单片机把程序存储器和数据存储器分成两个独立的地址空间，采用不同的寻址方式，使用两个不同的地址指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程序存储器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数据存储器。采用这种结构主要是考虑到工业控制的特点。一般工业控制系统中，需要较大的程序存储器空间和较小的随机存储器空间，不同于通用微机需要较大的数据存储器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609480"/>
            <a:ext cx="86868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单片机在输入输出接口方面的特点是，通道口引线在程序的控制下都可有第二功能，可由用户系统设计者灵活选择。比如数据线和地址线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可分时合用通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地址线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与其它信号线也可合用通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由于存储器和接口都在片内，就给应用提供了方便，往往只在其引脚处增加驱动器即可简化接口设计工作，提高单片机与外设数据交换的处理速度。同时，功能变换和选择由相应的指令来控制实现，而不是靠硬件上的跳线短接等方法实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单片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一线多功能的特点方便了用户，但在组成应用系统时，也应根据其特点分时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685800"/>
            <a:ext cx="86868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单片机的另一个显著特点是内部有一个全双工串行口，即可同时发送和接收；有两个物理上独立的接收、发送缓冲器。发送缓冲器只能写入不能读出，接收缓冲器只能读出不能写入。在程序的控制下，串行口能工作于四种方式，用户可根据需要，设定为移位寄存器方式以扩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和外接同步输入输出设备，或用作异步通信口，以实现双机或多机通信，极为方便地组成分布式控制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还值得一提的是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单片机内部有一个功能相对独立的位处理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布尔处理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因而其具有较强的位处理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91440" y="541008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组成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mg00001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1347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457200"/>
            <a:ext cx="8763120" cy="27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板机：将微处理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PU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存储器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电路以及简单的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设备组装在一块印刷电路板上，称其为单板微型计算机，简称单板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：将微处理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PU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存储器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电路和相应实时控制器件集成在一块芯片上，称其为单片微型计算机，简称单片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型计算机：微处理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PU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存储器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电路由总线有机地连接在一起的整体，称为微型计算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型计算机系统：微型计算机与外围设备、电源、系统软件一起构成的系统，称为微型计算机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609480"/>
            <a:ext cx="86868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用微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面向数据处理，其发展主要围绕数据处理功能、计算速度和精度的进一步提高。例如，现今微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支持浮点运算，采用流水线作业，并行处理、多级高速缓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ach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技术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主频达到数百兆赫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MHz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字长普遍达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。单片机主要面向控制，控制中的数据类型及数据处理相对简单，所以单片机的数据处理功能比通用微机相对要弱一些，计算速度和精度也相对要低一些。例如，现在的单片机产品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多不支持浮点运算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采用串行工作方式，其振荡频率大多在百兆赫兹范围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一些简单应用系统中采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字长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中、小规模应用场合广泛采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字长单片机，在一些复杂的中、大规模的应用系统中才采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字长单片机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产品目前应用得还不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838080"/>
            <a:ext cx="853416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8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用微机中存储器组织结构主要针对增大存储容量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数据的存取速度。现今微机的内存容量达到了数百兆字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M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存储体系采用多体、并读技术和段、页等多种管理模式。单片机中存储器的组织结构比较简单，存储器芯片直接挂接在单片机的总线上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存储器的读写按直接物理地址来寻址存储器单元，存储器的寻址空间一般都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838080"/>
            <a:ext cx="8458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用微机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主要考虑标准外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标准键盘、鼠标、打印机、硬盘、光盘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用户通过标准总线连接外设，能达到即插即用。单片机应用系统的外设都是非标准的，且千差万别，种类很多。单片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实际上是向用户提供的与外设连接的物理界面。用户对外设的连接要设计具体的接口电路，需有熟练的接口电路设计技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99600" y="914400"/>
            <a:ext cx="29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片机的发展概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828800"/>
            <a:ext cx="86104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单片机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7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美国德克萨斯仪器公司首次推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S-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各个计算机生产公司竞相推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。例如美国国家半导体公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ational Semiconductor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40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，日本电气公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EC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μPD75X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，美国洛克威尔公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Rockwell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S/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，日本松下公司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N1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，富士通公司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B8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主要用于家用电器、电子玩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85800"/>
            <a:ext cx="876312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8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单片机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，美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首先推出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4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以后，单片机发展进入了一个新的阶段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纷纷应运而生。例如，莫斯特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Mostek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仙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Fairchild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共同合作生产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70(F8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，摩托罗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Motorol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8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以前各厂家生产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，由于受集成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几千只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限制，一般没有串行接口，并且寻址空间的范围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K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从性能上看属于低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单片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2:14:34Z</dcterms:created>
  <dc:creator>mwz2</dc:creator>
  <dc:description/>
  <dc:language>en-US</dc:language>
  <cp:lastModifiedBy>马武装</cp:lastModifiedBy>
  <dcterms:modified xsi:type="dcterms:W3CDTF">2003-05-30T07:59:24Z</dcterms:modified>
  <cp:revision>6</cp:revision>
  <dc:subject/>
  <dc:title>PowerPoint 演示文稿</dc:title>
</cp:coreProperties>
</file>