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45B-357E-4ACE-9DA5-96AAB49C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68D-5291-4788-84BC-85C35E94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BE3-8D9C-446A-A8B2-ED7FC8B1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275-6BEE-4DA8-8998-D37A8A2F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8BD-CAF1-4A0F-A1CC-5AF20FE7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37F-6A3F-4C07-8CB0-73510CB6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72A-B2C0-495A-A800-806A9A77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730-897A-4EA4-B70F-8FC07D09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D05-D1DE-4FC0-A26D-BC209D5E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A45-A001-478D-B1B1-DC9D3635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3F8-E1A6-4DAA-9B17-4113E6AD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C92-F86C-4036-80E7-8F19FA81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95B8-8FB2-4B84-B3A8-1ED178D9A3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31532;1&#31456;.ppt#Slide 1" TargetMode="External"/><Relationship Id="rId3" Type="http://schemas.openxmlformats.org/officeDocument/2006/relationships/hyperlink" Target="file:///&#31532;2&#31456;.ppt#Slide 1" TargetMode="External"/><Relationship Id="rId4" Type="http://schemas.openxmlformats.org/officeDocument/2006/relationships/hyperlink" Target="file:///&#31532;2&#31456;.ppt#Slide 1" TargetMode="External"/><Relationship Id="rId5" Type="http://schemas.openxmlformats.org/officeDocument/2006/relationships/hyperlink" Target="file:///&#31532;2&#31456;.ppt#Slide 1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IF031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64480" y="6469200"/>
            <a:ext cx="479520" cy="388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304920"/>
            <a:ext cx="7162920" cy="655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822240"/>
            <a:ext cx="5257800" cy="55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2"/>
              </a:rPr>
              <a:t>第1章  概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3"/>
              </a:rPr>
              <a:t>第2章  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4"/>
              </a:rPr>
              <a:t>MCS-51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5"/>
              </a:rPr>
              <a:t>系列单片机的硬件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片机指令系统和汇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语言程序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片机系统功能的扩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片机的接口与应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 单片机应用系统设计与开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 单片机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语言应用程序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78440" y="457200"/>
            <a:ext cx="9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28600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策   划：马武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制   作：王    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监   制：梁家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单   位：西安电子科技大学出版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   话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29-82287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传   真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29-82327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   页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ttp://www.xduph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-mai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xdupkj@163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762120"/>
            <a:ext cx="464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ff"/>
                </a:solidFill>
                <a:latin typeface="Tahoma"/>
                <a:ea typeface="华文彩云"/>
              </a:rPr>
              <a:t>谢谢使用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01:00:50Z</dcterms:created>
  <dc:creator>mwz2</dc:creator>
  <dc:description/>
  <dc:language>en-US</dc:language>
  <cp:lastModifiedBy>马武装</cp:lastModifiedBy>
  <dcterms:modified xsi:type="dcterms:W3CDTF">2003-05-30T02:58:06Z</dcterms:modified>
  <cp:revision>5</cp:revision>
  <dc:subject/>
  <dc:title>PowerPoint 演示文稿</dc:title>
</cp:coreProperties>
</file>